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dt" idx="3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move the slide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 type="ftr" idx="3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6"/>
          <p:cNvSpPr>
            <a:spLocks noGrp="1"/>
          </p:cNvSpPr>
          <p:nvPr>
            <p:ph type="sldNum" idx="3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BE5F6-2C70-489A-A045-E85C5338127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16192-D7F1-42C6-BE23-92A99602ABB9}" type="slidenum">
              <a:rPr b="0" lang="en-GB" sz="1200" spc="-1" strike="noStrike">
                <a:solidFill>
                  <a:srgbClr val="00468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5B7214E-E5BF-4831-B91A-4E8E1F8E0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DCE1899-E59D-499F-BA2D-724DB2B64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E603CDE-9C5C-4C26-8D80-C32106F47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8ADBAEA-1394-4CD6-9E54-DD16A79BF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B4A209B-DE84-4EAE-AD2F-4133EC8B1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ADE8214-76FE-41F7-9B05-DDB2898A0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D8EEC18-EFBF-4D68-B33A-BBD733678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6AD6D66-CAD7-459E-96FF-43D32553D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0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0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AC0C290-840D-4AFE-B101-4534244B4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CEF42A-8B59-49DF-94D6-6B3FAC52C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DBCDBC-AF78-4057-BC91-07B36FACE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D2478A-30B0-49B4-90EB-B4E87200A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B3555E-4F68-4E9B-BD1F-052469BF0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A74674-5393-4CE7-8797-406194F54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85F3EE-A0BF-45ED-9150-289F5B7AD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D2C4C7-8FC2-4FB5-BC09-73D5F68CD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FA82E1-984A-4379-8407-131E8ED9A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83AE65-F21B-44E1-8596-B8F5BF204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BA70A9-8523-43AA-8EA5-4C770CF78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86AA9E-82A7-4043-A637-93415FA4E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4B43CF-A3F6-4A06-8ADA-0AB43EBC2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D389B86-20EC-490D-805E-3ABDF4115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6A8FDB5-796D-4CAC-B96D-8C31257BE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B32DF14-EC1A-4455-B997-DC161B7B3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EBC3B71-716C-42CB-B28F-20D6DC5E8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2E825D7-E5CB-4A73-A790-647A23E9B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457C5F1-BAC0-482F-B3D0-87FFE3E08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06588F2-DE38-40E7-AAF0-B8912BD10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B5413C6-FE59-49D5-AC01-B9805575C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6CA64A0-785D-4D66-9F5E-29F4D51FD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40FC36-E980-469E-B802-91E693AED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46151A5-74A0-41EE-8AE5-25CD82DB2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5285B79-AFC9-4C4B-B942-A25AFBFED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B163333-D564-45C6-A750-8870ECDB8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7F69EE9-5DC3-4780-82C1-239F68D61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F524EEC-3B09-4D84-B8AA-D96F22BD2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158E465-E1CC-4F9D-BDCE-C13DEDE8A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E724A0C-ABAE-43D4-A5EF-547D70176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BB2BEA9-4CEC-40CC-B02A-FCD88C38D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8426994-87F6-487E-8757-E74F3B35C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441D7FF-BD5B-4ADA-A690-3956C3E8A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3CBF14-7C5B-47FD-A65A-4661B3791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3046D3D-9EBB-4A9A-B525-01524EBFD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08FF439-399C-4C1C-9752-5CD96977B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8847E06-5865-48A8-AEDC-328EFC4F7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B7B2A06-6633-49C4-B0E9-DFC2E30EE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7DE42AD-4C89-4286-B856-AF4E795A7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654C7D-7D7B-4AA8-841C-E24B5D0A1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77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78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0E29E2-7782-4A0F-91C7-385148575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17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18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57B817-E92E-4830-BA3F-47A9DDE87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B2CC36-8680-4F70-B576-14DD54FE5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01B1CD-4204-4BA8-A6D4-59F902072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EABC9D-2FCF-47BA-B161-61FD28636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A4882E-ECD5-4D47-AB3B-27490D5FD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053AF9-E410-4F98-8F20-B0DDC2C04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F4FFAB-A1C6-4D1A-BFFE-0E3A3DCED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A1482A-94C2-4179-9425-8DB7021E4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803765-D844-465C-A45E-5467D1A67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DE33B6-839D-4C5E-96E7-6A87360AE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D57AFB-A497-4DD0-B57C-B8296E704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A646DE-B10C-4C61-AD75-74569EFBC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B357AB-1CAE-4A6D-B44E-0CF255AC8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A6FD25-A8AB-480A-BA2E-BE145D887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7E359A-02F3-41DA-9408-8C8658EDA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345F41-A536-4AF0-B5FC-EE842656B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59212D-B2D4-4B47-8B58-31EB7F2ED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6F80F1-09CC-4CB5-B0F3-B35E24380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8A01DF-3D61-4FEF-B33C-F660DF315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6E683A-4D96-4190-8D00-43FDF4C62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8CBCF36-0B0C-4CA0-847B-4EEB203FF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1193239-F5EE-4431-A206-12C7B735B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C94468A-DEA7-4729-B251-4EE465E9F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5C27C52-DC4E-43D5-BDB1-100EE4AC2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5673ED3-8E74-482B-9F56-7038EC0E5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5918226-8EB5-4C81-A844-70583216C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BA02D1C-8D57-4924-BF46-316FF0F67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71AF61E-8759-4D3D-9420-F50BDEAE8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8B16DA4-9D97-42D0-A9CE-6D31DAC3B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19B852C-839D-446C-B454-07E3A4BCC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D49BEAC-C2EB-4F83-9692-3EB8D2CB9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29B6224-75A6-4FA9-BD35-D9BCC86A4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F79EEF8-FAEF-4543-A1CD-4042ECF4D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99D1FD0-C463-4085-8C89-2EE303A35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81A66BE-707C-4C21-A5CA-AD68C168B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228B86E-C136-4501-A34E-02EFF26A9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E699618-16FC-4000-BB25-0278CF73E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7720A67-51B0-4EBF-B7A8-D59B6B1E7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D6ABF23-3B9A-451F-93CB-31F2AAAAA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8161804-7ED4-4FA0-8592-8648704B0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4019B57-FD95-4849-B880-B46541766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0E91BAF-B986-4273-BAA8-C0EFAABCA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77EB856-F40B-40BB-AA6C-9A3407FCF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CC6DC4F-3A0A-4FD0-9C19-2903209D4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287A422-893E-42C4-A278-5FDCFE98D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AFD7289-932F-44CF-83A4-6226E8BA8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87238EE-F17E-4F35-B003-ABA7F6DC7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B7FFA23-FC42-4BEB-B81D-BE310A833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AC041F6-75C5-4FD3-A131-669FB3040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C2F0117-973F-4637-ABE4-ED8BB2B3F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66EA591-D033-4794-96FB-6FA370F79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578DA3B-D438-4842-A0A3-DB9E1B84A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61B7AE4-0088-442B-B1E0-C1370BFFF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3189495-5899-4DEE-8FE1-AD07791C7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200D80C-977E-4E57-A43C-89F3AE6F2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C0A6DA2-E29E-44E5-89B3-74CEDC097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21D578E-A44B-4373-9F5B-C9AC25844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3AA957D-DAA0-4515-9609-769270DD0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FEC5AB8-9DCB-4AEE-A28D-6E529D662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55FA83B-C3D3-4613-B8FA-091B8FEC5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7E61CA9-AAEE-46B9-B6C0-FD0E216F9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C075F4D-D560-4726-94C5-AB2111366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8BD228D-6300-4FC2-8ADF-911BB4A5D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AE18C8F-4493-4CC5-946F-47A545DEC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C381152-B32F-4162-9A1B-8230795D9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E8D1135-04C8-457F-8F36-CE7B7B03A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DD3EA2D-121E-43B8-BE43-6CAC6DC51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1EF46F9-A1BC-40B6-B237-166E177F4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CAB1E14-C902-4D64-8EA1-3D6117A95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3D917CD-7584-4B6E-830F-CE51681B9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14757FE-4FF9-4D46-9072-CB5F47C91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B125C2A-BCCE-4FDB-86EE-E468D3FF5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FBFB792-D7AF-4DB2-8FC7-6C00E95A8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0A064B9-5519-4150-984B-912935067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84800C7-38C8-4EA2-AA2E-24E6B6B99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0CF86F0-E2CA-4A2E-9F2A-F873C1EA8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E5C1529-A1AF-40E8-85FC-31FD85412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F904A4C-06C5-424F-9EAA-A70332D3D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B0C1579-1D37-42AB-A98C-7BECF737D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585A1C1-2D63-4A7A-98D5-D1A6C3079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8C3B3B3-48E1-40E6-A1E1-46BCE6E2E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F7BF62D-7484-42B2-9628-D72378397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04A5C41-35EB-499E-A6EF-6E3448DE9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7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468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68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04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pic>
        <p:nvPicPr>
          <p:cNvPr id="6" name="Picture 10" descr=""/>
          <p:cNvPicPr/>
          <p:nvPr/>
        </p:nvPicPr>
        <p:blipFill>
          <a:blip r:embed="rId2"/>
          <a:stretch/>
        </p:blipFill>
        <p:spPr>
          <a:xfrm>
            <a:off x="8112240" y="401760"/>
            <a:ext cx="860400" cy="595080"/>
          </a:xfrm>
          <a:prstGeom prst="rect">
            <a:avLst/>
          </a:prstGeom>
          <a:ln w="0">
            <a:noFill/>
          </a:ln>
        </p:spPr>
      </p:pic>
      <p:sp>
        <p:nvSpPr>
          <p:cNvPr id="7" name="Rectangle 12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a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>
            <a:lum bright="70000" contrast="-70000"/>
          </a:blip>
          <a:srcRect l="41835" t="0" r="4303" b="0"/>
          <a:stretch/>
        </p:blipFill>
        <p:spPr>
          <a:xfrm>
            <a:off x="-17640" y="3495600"/>
            <a:ext cx="9171000" cy="336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10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05" name="Rectangle 11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00a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06" name="Rectangle 14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004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07" name="Rectangle 15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7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468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68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28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2512C-72BC-4CF0-B424-4A20C3FD8DD6}" type="slidenum"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ftr" idx="29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5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04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pic>
        <p:nvPicPr>
          <p:cNvPr id="451" name="Picture 10" descr=""/>
          <p:cNvPicPr/>
          <p:nvPr/>
        </p:nvPicPr>
        <p:blipFill>
          <a:blip r:embed="rId2"/>
          <a:stretch/>
        </p:blipFill>
        <p:spPr>
          <a:xfrm>
            <a:off x="8112240" y="401760"/>
            <a:ext cx="860400" cy="595080"/>
          </a:xfrm>
          <a:prstGeom prst="rect">
            <a:avLst/>
          </a:prstGeom>
          <a:ln w="0">
            <a:noFill/>
          </a:ln>
        </p:spPr>
      </p:pic>
      <p:sp>
        <p:nvSpPr>
          <p:cNvPr id="452" name="Rectangle 12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a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pic>
        <p:nvPicPr>
          <p:cNvPr id="453" name="Picture 10" descr=""/>
          <p:cNvPicPr/>
          <p:nvPr/>
        </p:nvPicPr>
        <p:blipFill>
          <a:blip r:embed="rId3">
            <a:lum bright="70000" contrast="-70000"/>
          </a:blip>
          <a:srcRect l="41835" t="0" r="4303" b="0"/>
          <a:stretch/>
        </p:blipFill>
        <p:spPr>
          <a:xfrm>
            <a:off x="-17640" y="3495600"/>
            <a:ext cx="9171000" cy="3362400"/>
          </a:xfrm>
          <a:prstGeom prst="rect">
            <a:avLst/>
          </a:prstGeom>
          <a:ln w="0">
            <a:noFill/>
          </a:ln>
        </p:spPr>
      </p:pic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468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68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1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2"/>
          </p:nvPr>
        </p:nvSpPr>
        <p:spPr>
          <a:xfrm>
            <a:off x="-67464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89991-9F5F-4B09-B1ED-C10A02F2DBE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10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96" name="Rectangle 11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004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97" name="Rectangle 14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00a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 type="dt" idx="33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468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68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 type="ftr" idx="34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 type="sldNum" idx="35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A8A4D-DFCF-45B3-B0A0-56E5FE3B38E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Picture 10" descr=""/>
          <p:cNvPicPr/>
          <p:nvPr/>
        </p:nvPicPr>
        <p:blipFill>
          <a:blip r:embed="rId2"/>
          <a:srcRect l="41833" t="0" r="4303" b="0"/>
          <a:stretch/>
        </p:blipFill>
        <p:spPr>
          <a:xfrm>
            <a:off x="-17640" y="3495600"/>
            <a:ext cx="9171000" cy="336240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15" descr=""/>
          <p:cNvPicPr/>
          <p:nvPr/>
        </p:nvPicPr>
        <p:blipFill>
          <a:blip r:embed="rId3"/>
          <a:stretch/>
        </p:blipFill>
        <p:spPr>
          <a:xfrm>
            <a:off x="7156440" y="290520"/>
            <a:ext cx="1714680" cy="1187280"/>
          </a:xfrm>
          <a:prstGeom prst="rect">
            <a:avLst/>
          </a:prstGeom>
          <a:ln w="0">
            <a:noFill/>
          </a:ln>
        </p:spPr>
      </p:pic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Picture 10" descr=""/>
          <p:cNvPicPr/>
          <p:nvPr/>
        </p:nvPicPr>
        <p:blipFill>
          <a:blip r:embed="rId2"/>
          <a:srcRect l="42014" t="0" r="4533" b="0"/>
          <a:stretch/>
        </p:blipFill>
        <p:spPr>
          <a:xfrm>
            <a:off x="-11160" y="3476520"/>
            <a:ext cx="9155160" cy="3381480"/>
          </a:xfrm>
          <a:prstGeom prst="rect">
            <a:avLst/>
          </a:prstGeom>
          <a:ln w="0">
            <a:noFill/>
          </a:ln>
        </p:spPr>
      </p:pic>
      <p:pic>
        <p:nvPicPr>
          <p:cNvPr id="580" name="Picture 15" descr=""/>
          <p:cNvPicPr/>
          <p:nvPr/>
        </p:nvPicPr>
        <p:blipFill>
          <a:blip r:embed="rId3"/>
          <a:stretch/>
        </p:blipFill>
        <p:spPr>
          <a:xfrm>
            <a:off x="7156440" y="290520"/>
            <a:ext cx="1714680" cy="1187280"/>
          </a:xfrm>
          <a:prstGeom prst="rect">
            <a:avLst/>
          </a:prstGeom>
          <a:ln w="0">
            <a:noFill/>
          </a:ln>
        </p:spPr>
      </p:pic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0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00a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004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a2e2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a2e2"/>
              </a:solidFill>
              <a:latin typeface="Tw Cen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3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4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5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a2e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11542-7D5E-41E2-B7C4-2F9A17C522E2}" type="slidenum">
              <a:rPr b="0" lang="en-US" sz="2400" spc="-1" strike="noStrike">
                <a:solidFill>
                  <a:srgbClr val="00a2e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04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pic>
        <p:nvPicPr>
          <p:cNvPr id="91" name="Picture 10" descr=""/>
          <p:cNvPicPr/>
          <p:nvPr/>
        </p:nvPicPr>
        <p:blipFill>
          <a:blip r:embed="rId2"/>
          <a:stretch/>
        </p:blipFill>
        <p:spPr>
          <a:xfrm>
            <a:off x="8112240" y="401760"/>
            <a:ext cx="860400" cy="59508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12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a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pic>
        <p:nvPicPr>
          <p:cNvPr id="93" name="Picture 10" descr=""/>
          <p:cNvPicPr/>
          <p:nvPr/>
        </p:nvPicPr>
        <p:blipFill>
          <a:blip r:embed="rId3">
            <a:lum bright="70000" contrast="-70000"/>
          </a:blip>
          <a:srcRect l="41835" t="0" r="4303" b="0"/>
          <a:stretch/>
        </p:blipFill>
        <p:spPr>
          <a:xfrm>
            <a:off x="-17640" y="3495600"/>
            <a:ext cx="9171000" cy="33624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468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68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8"/>
          </p:nvPr>
        </p:nvSpPr>
        <p:spPr>
          <a:xfrm>
            <a:off x="-67464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7C485-ED33-45F7-ADF9-5AD915DEF8F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10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136" name="Rectangle 11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00a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137" name="Rectangle 14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004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9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468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68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sldNum" idx="10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E06C4-7BA5-4734-BF63-55CE653CC70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ftr" idx="11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18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04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pic>
        <p:nvPicPr>
          <p:cNvPr id="181" name="Picture 10" descr=""/>
          <p:cNvPicPr/>
          <p:nvPr/>
        </p:nvPicPr>
        <p:blipFill>
          <a:blip r:embed="rId2"/>
          <a:stretch/>
        </p:blipFill>
        <p:spPr>
          <a:xfrm>
            <a:off x="8112240" y="401760"/>
            <a:ext cx="860400" cy="59508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12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a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pic>
        <p:nvPicPr>
          <p:cNvPr id="183" name="Picture 10" descr=""/>
          <p:cNvPicPr/>
          <p:nvPr/>
        </p:nvPicPr>
        <p:blipFill>
          <a:blip r:embed="rId3">
            <a:lum bright="70000" contrast="-70000"/>
          </a:blip>
          <a:srcRect l="41835" t="0" r="4303" b="0"/>
          <a:stretch/>
        </p:blipFill>
        <p:spPr>
          <a:xfrm>
            <a:off x="-17640" y="3495600"/>
            <a:ext cx="9171000" cy="336240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2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468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68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sldNum" idx="13"/>
          </p:nvPr>
        </p:nvSpPr>
        <p:spPr>
          <a:xfrm>
            <a:off x="-67464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9CCC4-E83A-43A4-8C01-E14C8DCCDF6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ftr" idx="14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22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04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pic>
        <p:nvPicPr>
          <p:cNvPr id="227" name="Picture 10" descr=""/>
          <p:cNvPicPr/>
          <p:nvPr/>
        </p:nvPicPr>
        <p:blipFill>
          <a:blip r:embed="rId2"/>
          <a:stretch/>
        </p:blipFill>
        <p:spPr>
          <a:xfrm>
            <a:off x="8112240" y="401760"/>
            <a:ext cx="860400" cy="595080"/>
          </a:xfrm>
          <a:prstGeom prst="rect">
            <a:avLst/>
          </a:prstGeom>
          <a:ln w="0">
            <a:noFill/>
          </a:ln>
        </p:spPr>
      </p:pic>
      <p:sp>
        <p:nvSpPr>
          <p:cNvPr id="228" name="Rectangle 12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a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pic>
        <p:nvPicPr>
          <p:cNvPr id="229" name="Picture 10" descr=""/>
          <p:cNvPicPr/>
          <p:nvPr/>
        </p:nvPicPr>
        <p:blipFill>
          <a:blip r:embed="rId3">
            <a:lum bright="70000" contrast="-70000"/>
          </a:blip>
          <a:srcRect l="41835" t="0" r="4303" b="0"/>
          <a:stretch/>
        </p:blipFill>
        <p:spPr>
          <a:xfrm>
            <a:off x="-17640" y="3495600"/>
            <a:ext cx="9171000" cy="336240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5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468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68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sldNum" idx="16"/>
          </p:nvPr>
        </p:nvSpPr>
        <p:spPr>
          <a:xfrm>
            <a:off x="-67464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F1A35-7851-4200-BDEE-58BC8E010DC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272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04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pic>
        <p:nvPicPr>
          <p:cNvPr id="273" name="Picture 10" descr=""/>
          <p:cNvPicPr/>
          <p:nvPr/>
        </p:nvPicPr>
        <p:blipFill>
          <a:blip r:embed="rId2"/>
          <a:stretch/>
        </p:blipFill>
        <p:spPr>
          <a:xfrm>
            <a:off x="8112240" y="401760"/>
            <a:ext cx="860400" cy="595080"/>
          </a:xfrm>
          <a:prstGeom prst="rect">
            <a:avLst/>
          </a:prstGeom>
          <a:ln w="0">
            <a:noFill/>
          </a:ln>
        </p:spPr>
      </p:pic>
      <p:sp>
        <p:nvSpPr>
          <p:cNvPr id="274" name="Rectangle 12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a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pic>
        <p:nvPicPr>
          <p:cNvPr id="275" name="Picture 10" descr=""/>
          <p:cNvPicPr/>
          <p:nvPr/>
        </p:nvPicPr>
        <p:blipFill>
          <a:blip r:embed="rId3">
            <a:lum bright="70000" contrast="-70000"/>
          </a:blip>
          <a:srcRect l="41835" t="0" r="4303" b="0"/>
          <a:stretch/>
        </p:blipFill>
        <p:spPr>
          <a:xfrm>
            <a:off x="-17640" y="3495600"/>
            <a:ext cx="9171000" cy="3362400"/>
          </a:xfrm>
          <a:prstGeom prst="rect">
            <a:avLst/>
          </a:prstGeom>
          <a:ln w="0">
            <a:noFill/>
          </a:ln>
        </p:spPr>
      </p:pic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8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468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68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1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0"/>
          </p:nvPr>
        </p:nvSpPr>
        <p:spPr>
          <a:xfrm>
            <a:off x="-67464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8796E-6EB9-4E98-825B-2B5A3F5EAF7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468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68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3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468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3008B-EC9F-4E22-830E-F649269254F8}" type="slidenum">
              <a:rPr b="0" lang="en-US" sz="2400" spc="-1" strike="noStrike">
                <a:solidFill>
                  <a:srgbClr val="004685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59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04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pic>
        <p:nvPicPr>
          <p:cNvPr id="360" name="Picture 10" descr=""/>
          <p:cNvPicPr/>
          <p:nvPr/>
        </p:nvPicPr>
        <p:blipFill>
          <a:blip r:embed="rId2"/>
          <a:stretch/>
        </p:blipFill>
        <p:spPr>
          <a:xfrm>
            <a:off x="8112240" y="401760"/>
            <a:ext cx="860400" cy="595080"/>
          </a:xfrm>
          <a:prstGeom prst="rect">
            <a:avLst/>
          </a:prstGeom>
          <a:ln w="0">
            <a:noFill/>
          </a:ln>
        </p:spPr>
      </p:pic>
      <p:sp>
        <p:nvSpPr>
          <p:cNvPr id="361" name="Rectangle 12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a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pic>
        <p:nvPicPr>
          <p:cNvPr id="362" name="Picture 10" descr=""/>
          <p:cNvPicPr/>
          <p:nvPr/>
        </p:nvPicPr>
        <p:blipFill>
          <a:blip r:embed="rId3">
            <a:lum bright="70000" contrast="-70000"/>
          </a:blip>
          <a:srcRect l="41835" t="0" r="4303" b="0"/>
          <a:stretch/>
        </p:blipFill>
        <p:spPr>
          <a:xfrm>
            <a:off x="-17640" y="3495600"/>
            <a:ext cx="9171000" cy="3362400"/>
          </a:xfrm>
          <a:prstGeom prst="rect">
            <a:avLst/>
          </a:prstGeom>
          <a:ln w="0">
            <a:noFill/>
          </a:ln>
        </p:spPr>
      </p:pic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 type="dt" idx="24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468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68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 type="ftr" idx="2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 type="sldNum" idx="26"/>
          </p:nvPr>
        </p:nvSpPr>
        <p:spPr>
          <a:xfrm>
            <a:off x="-67464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31D11-C248-46DE-B0A1-2FB410CA5FE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ubTitle"/>
          </p:nvPr>
        </p:nvSpPr>
        <p:spPr>
          <a:xfrm>
            <a:off x="306360" y="2641320"/>
            <a:ext cx="6632640" cy="22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taff Governance Board Update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May 2022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4685"/>
                </a:solidFill>
                <a:latin typeface="Tw Cen MT"/>
              </a:rPr>
              <a:t>Absence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612720" y="4618080"/>
            <a:ext cx="8153280" cy="16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77200" indent="-27720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685"/>
                </a:solidFill>
                <a:latin typeface="Tw Cen MT"/>
              </a:rPr>
              <a:t>6% in March 2022 - same a previous month</a:t>
            </a:r>
            <a:endParaRPr b="0" lang="en-US" sz="2000" spc="-1" strike="noStrike">
              <a:solidFill>
                <a:srgbClr val="004685"/>
              </a:solidFill>
              <a:latin typeface="Tw Cen MT"/>
            </a:endParaRPr>
          </a:p>
          <a:p>
            <a:pPr marL="277200" indent="-27720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685"/>
                </a:solidFill>
                <a:latin typeface="Tw Cen MT"/>
              </a:rPr>
              <a:t>Potential audit of mental health related absence to assess proportion of non-work related absence</a:t>
            </a:r>
            <a:endParaRPr b="0" lang="en-US" sz="2000" spc="-1" strike="noStrike">
              <a:solidFill>
                <a:srgbClr val="004685"/>
              </a:solidFill>
              <a:latin typeface="Tw Cen MT"/>
            </a:endParaRPr>
          </a:p>
          <a:p>
            <a:pPr marL="277200" indent="-27720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685"/>
                </a:solidFill>
                <a:latin typeface="Tw Cen MT"/>
              </a:rPr>
              <a:t>Cost of living pressures may feed into absence rates</a:t>
            </a:r>
            <a:endParaRPr b="0" lang="en-US" sz="2000" spc="-1" strike="noStrike">
              <a:solidFill>
                <a:srgbClr val="004685"/>
              </a:solidFill>
              <a:latin typeface="Tw Cen MT"/>
            </a:endParaRPr>
          </a:p>
          <a:p>
            <a:pPr marL="277200" indent="-27720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685"/>
                </a:solidFill>
                <a:latin typeface="Tw Cen MT"/>
              </a:rPr>
              <a:t>Consideration of risk related to cost of living for board risk register</a:t>
            </a:r>
            <a:endParaRPr b="0" lang="en-US" sz="2000" spc="-1" strike="noStrike">
              <a:solidFill>
                <a:srgbClr val="004685"/>
              </a:solidFill>
              <a:latin typeface="Tw Cen MT"/>
            </a:endParaRPr>
          </a:p>
        </p:txBody>
      </p:sp>
      <p:pic>
        <p:nvPicPr>
          <p:cNvPr id="629" name="Picture 2" descr=""/>
          <p:cNvPicPr/>
          <p:nvPr/>
        </p:nvPicPr>
        <p:blipFill>
          <a:blip r:embed="rId1"/>
          <a:stretch/>
        </p:blipFill>
        <p:spPr>
          <a:xfrm>
            <a:off x="1146240" y="1558800"/>
            <a:ext cx="6959520" cy="31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4685"/>
                </a:solidFill>
                <a:latin typeface="Tw Cen MT"/>
              </a:rPr>
              <a:t>Appraisal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4685"/>
                </a:solidFill>
                <a:latin typeface="Tw Cen MT"/>
              </a:rPr>
              <a:t>Agenda for change appraisal rate 52% in March 2022 – a  number of appraisals completed at this time last year now due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4685"/>
                </a:solidFill>
                <a:latin typeface="Tw Cen MT"/>
              </a:rPr>
              <a:t>Medical appraisal rate 84% in March 2022 (124/148)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4685"/>
                </a:solidFill>
                <a:latin typeface="Tw Cen MT"/>
              </a:rPr>
              <a:t>68.7% Job Plans complete for 2022/2023 (79/115)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4685"/>
                </a:solidFill>
                <a:latin typeface="Tw Cen MT"/>
              </a:rPr>
              <a:t>Workforce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4685"/>
                </a:solidFill>
                <a:latin typeface="Tw Cen MT"/>
              </a:rPr>
              <a:t>International recruitment has commenced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4685"/>
                </a:solidFill>
                <a:latin typeface="Tw Cen MT"/>
              </a:rPr>
              <a:t>Successful recruitment event in eye centre – learning from this will inform future events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7T13:33:31Z</dcterms:created>
  <dc:creator>Martin Clark</dc:creator>
  <dc:description/>
  <dc:language>en-US</dc:language>
  <cp:lastModifiedBy>Gareth Adkins</cp:lastModifiedBy>
  <dcterms:modified xsi:type="dcterms:W3CDTF">2022-05-23T08:24:41Z</dcterms:modified>
  <cp:revision>221</cp:revision>
  <dc:subject/>
  <dc:title>West of Scotland  Cardio-Thoracic Surgery Centre  Engagement Event</dc:title>
</cp:coreProperties>
</file>