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B9AF-F9FA-4C90-9D7C-8C740E0B10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A401-E344-43D9-965E-BF391C0739A2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215D04-087F-43AD-9169-C7A43F0A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F78B65-FA88-4A7E-8635-72878D8A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DDDCF6-81AD-4B1A-92F0-F5AAFDB7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A21BAB-6A9D-4F1A-A86A-4BD44C9E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B7DEA5-4524-479F-B6D8-E294EA2A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DFD4A0-D9FC-4BC6-9BEE-45A897CD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6289DB-8D7F-4801-B86D-9EF7658E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D910F3-30C7-44F8-A67E-9FF6F6A9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A59EEB-C3E6-44F6-B0FA-C51C0F42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84D88-F537-4B00-A80D-EC65D748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AC6A8-EB9C-47D7-8A6A-6160EB03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7E415-A43E-4A7E-9499-DE209922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4498B-84E8-4EF7-8823-C222FB6D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06604-AB9C-460E-9EB7-EE27424C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4D761-01ED-49E7-9389-B5D426BC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C58D5-DA85-4347-B712-1455E964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2CDC0-C132-44EC-B6A5-EC3C3880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28748A-D888-49AC-AEB9-F3CEE24B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5CCE6-0C1D-46A9-93AF-1924A937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15510-9079-4691-97A2-3035E68D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EDE98-3FEA-4DF6-9292-D7DC8097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E0260E-E8CC-4E92-ACEF-01F84579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18F0E4-AE07-4A52-A6D0-CE72126D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4D6E12-0EC1-477D-A7D6-E1CE1547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6FD0EA-0BC6-490A-B9D5-FDADF2D7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5F7588-7F3A-425A-91FB-3A1BA61D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5D360D-2876-42B6-A94D-358889A2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300F4D-CB7B-45FB-9E0A-69733FA7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EA2D9F-F2D1-4A2A-AF5D-48EB8C64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653FE8-AAE2-485B-AD08-5EF91A21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B4D4A-672C-4015-A15F-E1DEF4E0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675E08-5C1D-4817-B6BA-2CB2D3E1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926F7A-19B0-4764-B87B-D0D40D6E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ADA3E0-E733-42F5-A471-97CAE687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8B6B07-6893-473B-BBA9-30D4F71A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DE235E-7681-4CA8-9428-50A1EBB5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10C1D9-741A-4D0B-93B0-B4D2EF47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9E2F32-D6D6-4395-B75E-82090098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18BFB7-5C9A-4471-985D-BB76D393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60BBFE-628A-4919-B944-A97B2B90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14009B-1696-4042-AB9F-98B8C3CC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E3FDC-B039-4FBA-BA4E-D807AEB2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DE9EC5-1DD4-41C6-9EE9-2D6C0287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4A0C49-E72B-4D95-92EF-E15F5E09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82C11C-006A-416F-912E-67D359D9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BEC359-4534-4209-93DA-245D2E63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FE7045-FC89-4A97-8653-FC22DAD5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00CDA-E38C-4182-A089-5A030BB7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D5146-17F6-4FD8-A035-A1D735CB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1156E-ECDC-4C55-A294-32944FD7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18AE4-A187-4CCF-8258-C177CC85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60E20-A529-43B9-8871-B143D551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21A48-C4E6-4F3E-91C7-1664BF25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4A049-92A6-438A-A150-95A6256D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0A3F6-A767-457D-977F-0EA9C47E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8CBF8-16B6-4F47-90A6-1F3F9C17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E1FA7-7C9D-481B-8587-9DB8A392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FC62B-70C9-49CB-AA45-BE8B809C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68441-A047-4BF7-A0C1-1C33DCB0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9ED78-AAA6-40D3-AACA-77708427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0AF7A-7673-4FEA-9F43-46C5C920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11C13-E89C-4398-A275-FED73B0D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1DF3D-AC83-432B-BC41-4490DD52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BD14A-0511-4004-9F7B-D35BC63B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F8E9F-82F7-499D-A9C8-82659ACD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F89E6-8040-47CD-B9B5-06E76A9B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44B76-9C58-432C-9FBD-137A55B7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9724D-3147-4617-99E4-54D71FD4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D0F4F-280A-42FB-8DEA-D0C25A68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CD928-8B20-44D6-B813-AD79C03C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5A0797-3989-4E30-AD0D-2D009E2D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FE50A1-8858-4650-AE65-C4DFA6B5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4ED80F-D53E-4F69-8585-BDC6CE0E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AF66D6-9DA0-42C1-9BD8-AFAE3617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1A7FE-9133-454E-8671-6FD29129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0E4AD4-B92F-416E-BF69-B9AB3149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0CC201-D691-472F-837D-EEA7CECD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764531-897D-43C4-934B-7DF52297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C7DAC6-75F5-40E4-97AB-484A2168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DC9F99-4A5C-4498-8507-64F10B0B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7B9286-8AD8-4630-8FB8-DE08C18F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F5AF1B-EED5-45FB-A8BB-2D21BEA6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10101B-1CD8-48ED-8D38-A18D0967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368421-623D-4ACA-BEE8-AD93B31B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7150D8-C363-43D1-A732-A079D03F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23AF7B-2B99-4C9B-8953-B3A47077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4CB1D9-E9C7-4094-BF24-C0A6ED61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90C9D8-65A4-4456-BDB1-558EF121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DCC689-B314-4F58-91D6-B242474B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59E8FA-A4F0-4219-ABC3-613A34EB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12B815-BC51-49F4-976C-2F5E02EB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4845E8-8C86-4D67-A90A-AE85FF2D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EEC988-1769-42D9-B6F6-15A133EA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09C700-1EA2-4B54-BAF3-201EE2EF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B3345D-1E6A-4523-8CD3-65904270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346E58-C0DD-4486-9EB5-0C2AB75D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C04E57-01C7-444E-9AFE-1C93A562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A5E686-57A0-4CE9-982B-D16229EE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5743FC-915D-4B82-ABE5-A5AF1930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4ED916-77E9-44BA-9E4B-2DDEE388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480DB2-5D51-42AC-9360-0C4F592A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604B61-E617-44F6-B990-36512264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C36B58-EB5B-469D-A0FB-B07EC7D4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FA662B-9738-4E6E-9BBB-A5B46BF1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739203-63AC-4938-92A2-E1665E15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6B3BAC-F10A-4041-A9DD-9898AE8D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2413B2-5D5C-4039-82FE-E80E2690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BD8C7F-75D1-46CE-BA14-1B3D8432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714F2D-FB67-4EEC-9E1C-5EFDCCDC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34BC8A-0680-434D-9CD3-88FC5E26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0875E5-37D6-44BB-87BD-F1AE667F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90F29A-47BE-4E96-BB5D-488D7396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250D9F-969D-4DBC-AE9F-DC0C096B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F3FC01-6DB3-4F1C-A78C-36776831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50A23-E959-45BC-8BA1-FFB11EEC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1BB4EA-412D-4D45-B745-895921E1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2CF59B-5AFC-43BC-93C3-F740DEF1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5C9DCC-D40A-4AEA-AF84-285132DA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48B849-EF49-463E-874A-F964898F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0005D2-083C-49FF-992A-1883E1F4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F1A6C0-77A0-4505-BE07-B022331D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14AAA3-60B0-43F2-A96F-A1B0E319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94446C-21B3-4FFB-B6EE-1D19A930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C6C134-5A28-4F36-8779-340F54E6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C09134-3C4A-48E5-92D2-C1AE1E0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4D6A57-8198-4D79-B71A-B70826BB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FBE016-8B26-4410-94B0-4C4E3AB6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876837-766E-4D35-BDF0-ADAD82C3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99C5B9-6C13-4E74-899D-2D4C7286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263C5D-A77A-43DC-9E20-C1E813EB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ED8BDC-CF34-45C5-B065-A2A3A22C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08675B-91F9-403A-B36B-8D0E938F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8AFD-C9BA-47AA-A97A-0E0917DC2AE6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48FA-1189-4D6D-93A6-7F74F7153F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AF92-C9C4-4ECE-9508-FF9FEEC7BB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1160" y="3476520"/>
            <a:ext cx="9155160" cy="3381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e2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a2e2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a2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2105-BAF8-478B-B1A5-CACD3C11CC00}" type="slidenum">
              <a:rPr b="0" lang="en-US" sz="2400" spc="-1" strike="noStrike">
                <a:solidFill>
                  <a:srgbClr val="00a2e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29D3-B1DC-4B73-8315-DA0D179CE0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78C4-64EF-43EE-B756-42E54C6C04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3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7441-74C7-4BB6-BC81-9C8B3EF704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16F8-DEE0-4B78-8B43-9FA53D4571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5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0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CDC8-A96D-47D3-A83F-CA4BD94D8A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2080-8B1D-4B7C-9450-3EC7314ABE63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2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3858-CC70-4FC7-B72B-9C0AF1EFA8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6360" y="2641320"/>
            <a:ext cx="663264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taff Governance Board Updat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May 2022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bsen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720" y="461808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6% in March 2022 - same a previous month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Potential audit of mental health related absence to assess proportion of non-work related absence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st of living pressures may feed into absence rates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nsideration of risk related to cost of living for board risk register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146240" y="1558800"/>
            <a:ext cx="6959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ppraisal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Agenda for change appraisal rate 52% in March 2022 – a  number of appraisals completed at this time last year now du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Medical appraisal rate 84% in March 2022 (124/148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68.7% Job Plans complete for 2022/2023 (79/115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Workfor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International recruitment has commenced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Successful recruitment event in eye centre – learning from this will inform future events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Gareth Adkins</cp:lastModifiedBy>
  <dcterms:modified xsi:type="dcterms:W3CDTF">2022-05-23T08:24:41Z</dcterms:modified>
  <cp:revision>221</cp:revision>
  <dc:subject/>
  <dc:title>West of Scotland  Cardio-Thoracic Surgery Centre  Engagement Event</dc:title>
</cp:coreProperties>
</file>