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2193588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12"/>
          </p:nvPr>
        </p:nvSpPr>
        <p:spPr>
          <a:xfrm>
            <a:off x="384984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120" y="739800"/>
            <a:ext cx="656892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13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14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E60B-CA48-469C-915B-43B5915990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9800-C5BC-46FC-8045-5D2CC40582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2D50-8343-415A-9CDF-9CCEFA2A16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15C6-E18B-4A55-BB68-025B1380840D}" type="slidenum">
              <a:rPr b="0" lang="en-GB" sz="1200" spc="-1" strike="noStrike">
                <a:solidFill>
                  <a:srgbClr val="0046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C800-DD37-4E3E-96A2-E01895774F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6C5D-AA03-4269-B1EE-353FDDC438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0C44-07C9-4038-A6B3-4CE70B0488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9028-8503-4288-93F3-1CF8E21646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8A4B-E050-4322-A71A-A5171C00CD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7B3C-2888-49DE-A5B0-26ED59EA5C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E8BE-8DA0-4C07-87B9-156C26603F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D474-6578-4BF3-944D-0539DEC345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6F65-7B73-4795-BD6F-3044C71677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821C-98C8-4261-B24D-60979CA778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B599-E580-4F1D-A2A5-ED83B7D543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98AD-B7A3-4C07-83A8-C8FFE0B7A37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26069-73C5-4090-A174-AF288EC1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05B0C-2868-4D7E-8C17-C782B7BD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246CD-CAD6-40DF-A1A0-0DAC0AE3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8189E-100C-4EA1-A69B-3C0A0C10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8F6B0-7C84-4D8E-BEC9-3EC0AEF4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42C2D-DDC6-42FF-B170-D3EBCF93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0369D-B374-4BB3-8F2C-95338558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6CAE6-E523-475D-A3A0-E7D5E6B5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93B2A-3DDA-4B4F-80BD-2BDD7CBC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20821-BAB9-4C1C-A7A2-5D97A966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7D3F2-691D-4FBE-9C05-E5E0B8E9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782F2-5F5D-4886-8DCD-D5B9F82B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CE7FF3-32BC-4BB8-BC67-9F2EC029A5B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849EC4-CB27-4117-B567-9AB04605C09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6A24D1-1F17-4596-9A6B-7840DD4EB8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87B8E8-A9BE-4670-99A2-5C06BA51754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2E897B-D064-4603-B463-CE4FAC60E42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79DF31-1881-484A-A3F0-C2ED544AA89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6F94F9-F60F-4E95-AA9E-F491EC48E2B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77050F-8337-4A3C-A78C-12A368D0DCF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FB18ED-35AE-4992-9F9E-C050FF7D5D9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0F6AE6-2C21-4908-A491-A085C11E69F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A7A6A5-4092-4188-81E3-42148007AA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6910FB-95D3-495C-BDEB-C45BF9AB450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5DF5DC-743F-41B9-A7CC-249E43453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6778F3-E808-49BD-AA6A-1A7D44398B2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769847-4E44-4221-B8A6-84188CABEBE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E7371-80F1-47B6-990F-5499AC3AE37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3FE19D-CCBA-41EB-8FD4-66EB944EAC2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043EC5-3CB4-4A91-BEA5-FEF3E578B45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236B0B-182A-4CFD-A4C2-EA5FF5307E3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81EAD-8A36-4547-AC95-54724B3B480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B021D5-948E-463F-941D-18A68C61D1D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A8C16E-CA52-4AD5-A1B3-998FAADB371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02ACA3-6267-4581-B6B2-BD71FCFEB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151F64-CFC6-4DDB-862B-DE1CA7DDF1D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B75E9C-8A71-4481-BD31-0C2663D5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212E3E-B914-4FC4-9C7A-5BF5EE1A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D55CFB-F135-4584-ADB0-6288C618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0A2E65-DA96-4907-8492-E26299DB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3E5B6E-0D11-4E3B-BC44-BE8EE7CA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C051C2-AC3C-49DA-91C2-18E09CEC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E831E4-AF72-42CE-8C46-FF208E39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E03BE2-D93F-46B2-8038-0395C246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61C526-01EE-4757-9B15-3FAF92E9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08146B-B9D4-4759-9685-3FF7FB45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29E583-1825-4335-B4CB-E32F3F20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91E846-3E53-4267-B26D-D9FAFE9B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99D5-9FC1-49DF-B6F8-1CE19F5E8C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5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AE78-6A82-429A-BFAE-198B59A5B2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EAF2-360A-4884-86EE-02A6F0F16D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2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8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25DE-3F9C-4AE2-9D71-7663AA98D3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0" descr=""/>
          <p:cNvPicPr/>
          <p:nvPr/>
        </p:nvPicPr>
        <p:blipFill>
          <a:blip r:embed="rId2"/>
          <a:srcRect l="41833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"/>
          <p:cNvPicPr/>
          <p:nvPr/>
        </p:nvPicPr>
        <p:blipFill>
          <a:blip r:embed="rId3"/>
          <a:stretch/>
        </p:blipFill>
        <p:spPr>
          <a:xfrm>
            <a:off x="9747360" y="298440"/>
            <a:ext cx="2020680" cy="13986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0" descr=""/>
          <p:cNvPicPr/>
          <p:nvPr/>
        </p:nvPicPr>
        <p:blipFill>
          <a:blip r:embed="rId2"/>
          <a:srcRect l="42014" t="0" r="4533" b="0"/>
          <a:stretch/>
        </p:blipFill>
        <p:spPr>
          <a:xfrm>
            <a:off x="-14400" y="3476520"/>
            <a:ext cx="12206520" cy="3381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4" descr=""/>
          <p:cNvPicPr/>
          <p:nvPr/>
        </p:nvPicPr>
        <p:blipFill>
          <a:blip r:embed="rId3"/>
          <a:stretch/>
        </p:blipFill>
        <p:spPr>
          <a:xfrm>
            <a:off x="9747360" y="298440"/>
            <a:ext cx="2020680" cy="13986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9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0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1"/>
          </p:nvPr>
        </p:nvSpPr>
        <p:spPr>
          <a:xfrm>
            <a:off x="0" y="6248520"/>
            <a:ext cx="711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CAF8-7E09-4AB5-A5B1-42D2AE36457F}" type="slidenum">
              <a:rPr b="0" lang="en-US" sz="2400" spc="-1" strike="noStrike">
                <a:solidFill>
                  <a:srgbClr val="0046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07520" y="2641320"/>
            <a:ext cx="884412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Hospital Expansion Update 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NHS GJNUH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29 September 2022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1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685"/>
                </a:solidFill>
                <a:latin typeface="Tw Cen MT"/>
              </a:rPr>
              <a:t>Phase 1 Eye Centr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perational from Nov 20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ngoing defects monitoring continues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Meetings re possible solutions held with the PSCP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Design Engineer developing options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NHS Scotland Assure to review design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olution will be taken to the Water Safety &amp; PCIC Groups 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Increase in patient numbers and double clinics now restrictions have eased.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79640" y="250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Hospital Expansion Programm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79640" y="1767960"/>
            <a:ext cx="815328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4685"/>
                </a:solidFill>
                <a:latin typeface="Tw Cen MT"/>
              </a:rPr>
              <a:t>Phase 2 Surgical Centr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NHS Assure Stage 4 Construction Review now concluded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Initial report issued to NHS GJ and PSCP for review and comment 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Reduction in recommendations and actions from Stage 3 review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Engagement ongoing with SG in relation to scheduling next Gateway Review now NHS Assure has been complet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8480" y="183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Hospital Expansion Programm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68480" y="1682640"/>
            <a:ext cx="815328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4685"/>
                </a:solidFill>
                <a:latin typeface="Tw Cen MT"/>
              </a:rPr>
              <a:t>Phase 2 Surgical Centr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Works continue on site to programme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Fire taping &amp; finishing taping L3, L1 &amp; L2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Lift installation (6 of 8 complete) progressing lifts 1&amp;2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Floor finishes in theatres completed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AHU deliveries, Electrical transformer delivered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Canopy installation in theatres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Roof access ladders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All level 2 modules now onsite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Progressing with external works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2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359" name="Content Placeholder 4" descr=""/>
          <p:cNvPicPr/>
          <p:nvPr/>
        </p:nvPicPr>
        <p:blipFill>
          <a:blip r:embed="rId1"/>
          <a:stretch/>
        </p:blipFill>
        <p:spPr>
          <a:xfrm>
            <a:off x="817560" y="1957320"/>
            <a:ext cx="4403880" cy="3281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6742080" y="1874880"/>
            <a:ext cx="4635360" cy="3363840"/>
          </a:xfrm>
          <a:prstGeom prst="rect">
            <a:avLst/>
          </a:prstGeom>
          <a:ln w="0">
            <a:noFill/>
          </a:ln>
        </p:spPr>
      </p:pic>
      <p:sp>
        <p:nvSpPr>
          <p:cNvPr id="361" name="TextBox 6"/>
          <p:cNvSpPr/>
          <p:nvPr/>
        </p:nvSpPr>
        <p:spPr>
          <a:xfrm>
            <a:off x="1386000" y="5576760"/>
            <a:ext cx="28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heatre corridor 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7245360" y="557676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heatre canopies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2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364" name="Content Placeholder 6" descr=""/>
          <p:cNvPicPr/>
          <p:nvPr/>
        </p:nvPicPr>
        <p:blipFill>
          <a:blip r:embed="rId1"/>
          <a:stretch/>
        </p:blipFill>
        <p:spPr>
          <a:xfrm>
            <a:off x="1225440" y="1589040"/>
            <a:ext cx="3475080" cy="4495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616800" y="1589040"/>
            <a:ext cx="4637160" cy="4495680"/>
          </a:xfrm>
          <a:prstGeom prst="rect">
            <a:avLst/>
          </a:prstGeom>
          <a:ln w="0">
            <a:noFill/>
          </a:ln>
        </p:spPr>
      </p:pic>
      <p:sp>
        <p:nvSpPr>
          <p:cNvPr id="366" name="TextBox 8"/>
          <p:cNvSpPr/>
          <p:nvPr/>
        </p:nvSpPr>
        <p:spPr>
          <a:xfrm>
            <a:off x="1555920" y="622476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rialling sanitary ware 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7213680" y="6254640"/>
            <a:ext cx="26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Surgical Admissions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Breakthroughs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1 Junction 3 completed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1 Junction 2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AI SCRIBE completed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Services diversions and isolations commenced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oarding installation planned early Sept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2 Junction 1, 2 and 3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oardings installed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Service diversions and isolations commenced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Refurbishments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rtho OPD (WTO1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oarding installed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AI SCRIBE complet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oft strip of area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ervice diversion and isolations underway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Theatre Admin (WTO 3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AI SCRIBE complet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oarding install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ervice diversion and isolations underway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PACU and theatre refurbishment (WTO 2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urvey work commenc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1673280" y="-61920"/>
            <a:ext cx="8688240" cy="69040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3"/>
          <p:cNvSpPr/>
          <p:nvPr/>
        </p:nvSpPr>
        <p:spPr>
          <a:xfrm>
            <a:off x="5181480" y="60480"/>
            <a:ext cx="3187800" cy="209844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2440080" y="5703840"/>
            <a:ext cx="2081160" cy="110160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5659560" y="3247920"/>
            <a:ext cx="384120" cy="314280"/>
          </a:xfrm>
          <a:prstGeom prst="rect">
            <a:avLst/>
          </a:prstGeom>
          <a:solidFill>
            <a:srgbClr val="7f7f7f">
              <a:alpha val="46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6018120" y="4530600"/>
            <a:ext cx="260280" cy="644760"/>
          </a:xfrm>
          <a:prstGeom prst="rect">
            <a:avLst/>
          </a:prstGeom>
          <a:solidFill>
            <a:srgbClr val="7f7f7f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4835520" y="4113360"/>
            <a:ext cx="901800" cy="112680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8745480" y="5097600"/>
            <a:ext cx="1368360" cy="38412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6634080" y="5526000"/>
            <a:ext cx="397080" cy="127944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9640800" y="5481720"/>
            <a:ext cx="471600" cy="107784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9718560" y="3745080"/>
            <a:ext cx="897120" cy="312480"/>
          </a:xfrm>
          <a:prstGeom prst="rect">
            <a:avLst/>
          </a:prstGeom>
          <a:solidFill>
            <a:srgbClr val="7f7f7f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Post Phase 2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2" name="Rectangle 11"/>
          <p:cNvSpPr/>
          <p:nvPr/>
        </p:nvSpPr>
        <p:spPr>
          <a:xfrm flipH="1">
            <a:off x="9717840" y="3083040"/>
            <a:ext cx="809640" cy="312480"/>
          </a:xfrm>
          <a:prstGeom prst="rect">
            <a:avLst/>
          </a:prstGeom>
          <a:solidFill>
            <a:srgbClr val="92d050">
              <a:alpha val="50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Pre Phase 2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3" name="TextBox 12"/>
          <p:cNvSpPr/>
          <p:nvPr/>
        </p:nvSpPr>
        <p:spPr>
          <a:xfrm>
            <a:off x="5251320" y="98280"/>
            <a:ext cx="227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Provision of additional PACU beds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4" name="TextBox 13"/>
          <p:cNvSpPr/>
          <p:nvPr/>
        </p:nvSpPr>
        <p:spPr>
          <a:xfrm>
            <a:off x="5346360" y="2992320"/>
            <a:ext cx="1332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Widen door access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5" name="TextBox 14"/>
          <p:cNvSpPr/>
          <p:nvPr/>
        </p:nvSpPr>
        <p:spPr>
          <a:xfrm>
            <a:off x="5855760" y="4359240"/>
            <a:ext cx="848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Trolley bay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6" name="TextBox 15"/>
          <p:cNvSpPr/>
          <p:nvPr/>
        </p:nvSpPr>
        <p:spPr>
          <a:xfrm>
            <a:off x="4643280" y="4113360"/>
            <a:ext cx="128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Create lay up prep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7" name="TextBox 16"/>
          <p:cNvSpPr/>
          <p:nvPr/>
        </p:nvSpPr>
        <p:spPr>
          <a:xfrm>
            <a:off x="2516040" y="5703840"/>
            <a:ext cx="20383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 &amp;Theatre 9 refurb 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8" name="TextBox 17"/>
          <p:cNvSpPr/>
          <p:nvPr/>
        </p:nvSpPr>
        <p:spPr>
          <a:xfrm>
            <a:off x="4921920" y="3733920"/>
            <a:ext cx="635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Thoraci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9" name="TextBox 18"/>
          <p:cNvSpPr/>
          <p:nvPr/>
        </p:nvSpPr>
        <p:spPr>
          <a:xfrm>
            <a:off x="6329160" y="3746520"/>
            <a:ext cx="635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Thoraci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0" name="TextBox 19"/>
          <p:cNvSpPr/>
          <p:nvPr/>
        </p:nvSpPr>
        <p:spPr>
          <a:xfrm>
            <a:off x="8787960" y="3116160"/>
            <a:ext cx="583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1" name="TextBox 20"/>
          <p:cNvSpPr/>
          <p:nvPr/>
        </p:nvSpPr>
        <p:spPr>
          <a:xfrm>
            <a:off x="8897760" y="4498920"/>
            <a:ext cx="594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2" name="TextBox 21"/>
          <p:cNvSpPr/>
          <p:nvPr/>
        </p:nvSpPr>
        <p:spPr>
          <a:xfrm>
            <a:off x="7170840" y="624528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3" name="TextBox 22"/>
          <p:cNvSpPr/>
          <p:nvPr/>
        </p:nvSpPr>
        <p:spPr>
          <a:xfrm>
            <a:off x="8829720" y="621036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4" name="TextBox 23"/>
          <p:cNvSpPr/>
          <p:nvPr/>
        </p:nvSpPr>
        <p:spPr>
          <a:xfrm>
            <a:off x="2516040" y="414504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5" name="TextBox 24"/>
          <p:cNvSpPr/>
          <p:nvPr/>
        </p:nvSpPr>
        <p:spPr>
          <a:xfrm>
            <a:off x="3992400" y="345456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6" name="TextBox 25"/>
          <p:cNvSpPr/>
          <p:nvPr/>
        </p:nvSpPr>
        <p:spPr>
          <a:xfrm>
            <a:off x="3992400" y="466884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7" name="TextBox 26"/>
          <p:cNvSpPr/>
          <p:nvPr/>
        </p:nvSpPr>
        <p:spPr>
          <a:xfrm>
            <a:off x="4643280" y="6210360"/>
            <a:ext cx="684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olorect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8" name="TextBox 27"/>
          <p:cNvSpPr/>
          <p:nvPr/>
        </p:nvSpPr>
        <p:spPr>
          <a:xfrm>
            <a:off x="7319880" y="3517920"/>
            <a:ext cx="61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9" name="TextBox 28"/>
          <p:cNvSpPr/>
          <p:nvPr/>
        </p:nvSpPr>
        <p:spPr>
          <a:xfrm>
            <a:off x="7319880" y="4754520"/>
            <a:ext cx="61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0" name="TextBox 29"/>
          <p:cNvSpPr/>
          <p:nvPr/>
        </p:nvSpPr>
        <p:spPr>
          <a:xfrm>
            <a:off x="5880240" y="6126120"/>
            <a:ext cx="614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1" name="TextBox 30"/>
          <p:cNvSpPr/>
          <p:nvPr/>
        </p:nvSpPr>
        <p:spPr>
          <a:xfrm>
            <a:off x="6510240" y="5519880"/>
            <a:ext cx="10242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</a:t>
            </a: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2" name="TextBox 31"/>
          <p:cNvSpPr/>
          <p:nvPr/>
        </p:nvSpPr>
        <p:spPr>
          <a:xfrm>
            <a:off x="9375840" y="5103720"/>
            <a:ext cx="15382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 &amp; new stairwell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3" name="Rectangle 32"/>
          <p:cNvSpPr/>
          <p:nvPr/>
        </p:nvSpPr>
        <p:spPr>
          <a:xfrm>
            <a:off x="4562640" y="5703840"/>
            <a:ext cx="901440" cy="1127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4" name="Rectangle 33"/>
          <p:cNvSpPr/>
          <p:nvPr/>
        </p:nvSpPr>
        <p:spPr>
          <a:xfrm>
            <a:off x="3693960" y="2144880"/>
            <a:ext cx="4675320" cy="90000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5" name="Rectangle 34"/>
          <p:cNvSpPr/>
          <p:nvPr/>
        </p:nvSpPr>
        <p:spPr>
          <a:xfrm>
            <a:off x="8680320" y="4113360"/>
            <a:ext cx="901800" cy="1019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6" name="Rectangle 35"/>
          <p:cNvSpPr/>
          <p:nvPr/>
        </p:nvSpPr>
        <p:spPr>
          <a:xfrm>
            <a:off x="8685360" y="5697360"/>
            <a:ext cx="901440" cy="106524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7" name="Rectangle 36"/>
          <p:cNvSpPr/>
          <p:nvPr/>
        </p:nvSpPr>
        <p:spPr>
          <a:xfrm>
            <a:off x="7072200" y="5742000"/>
            <a:ext cx="901800" cy="105408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8" name="Rectangle 37"/>
          <p:cNvSpPr/>
          <p:nvPr/>
        </p:nvSpPr>
        <p:spPr>
          <a:xfrm>
            <a:off x="5667480" y="5789520"/>
            <a:ext cx="901440" cy="1019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9" name="Rectangle 38"/>
          <p:cNvSpPr/>
          <p:nvPr/>
        </p:nvSpPr>
        <p:spPr>
          <a:xfrm>
            <a:off x="9731520" y="4278240"/>
            <a:ext cx="896760" cy="312840"/>
          </a:xfrm>
          <a:prstGeom prst="rect">
            <a:avLst/>
          </a:prstGeom>
          <a:solidFill>
            <a:srgbClr val="00a2e2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Disruption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0" name="Rectangle 39"/>
          <p:cNvSpPr/>
          <p:nvPr/>
        </p:nvSpPr>
        <p:spPr>
          <a:xfrm>
            <a:off x="6238800" y="3218040"/>
            <a:ext cx="984240" cy="866520"/>
          </a:xfrm>
          <a:prstGeom prst="rect">
            <a:avLst/>
          </a:prstGeom>
          <a:solidFill>
            <a:srgbClr val="ffc000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1" name="Rectangle 40"/>
          <p:cNvSpPr/>
          <p:nvPr/>
        </p:nvSpPr>
        <p:spPr>
          <a:xfrm>
            <a:off x="4829040" y="3240000"/>
            <a:ext cx="784440" cy="873360"/>
          </a:xfrm>
          <a:prstGeom prst="rect">
            <a:avLst/>
          </a:prstGeom>
          <a:solidFill>
            <a:srgbClr val="ffc000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2" name="Rectangle 41"/>
          <p:cNvSpPr/>
          <p:nvPr/>
        </p:nvSpPr>
        <p:spPr>
          <a:xfrm>
            <a:off x="9718560" y="4729320"/>
            <a:ext cx="897120" cy="312480"/>
          </a:xfrm>
          <a:prstGeom prst="rect">
            <a:avLst/>
          </a:prstGeom>
          <a:solidFill>
            <a:srgbClr val="ffc000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? Th Move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3:33:31Z</dcterms:created>
  <dc:creator>Martin Clark</dc:creator>
  <dc:description/>
  <dc:language>en-US</dc:language>
  <cp:lastModifiedBy>Alison Mackay</cp:lastModifiedBy>
  <cp:lastPrinted>2022-08-31T13:23:00Z</cp:lastPrinted>
  <dcterms:modified xsi:type="dcterms:W3CDTF">2022-09-14T13:06:35Z</dcterms:modified>
  <cp:revision>225</cp:revision>
  <dc:subject/>
  <dc:title>West of Scotland  Cardio-Thoracic Surgery Centre  Engagement Event</dc:title>
</cp:coreProperties>
</file>