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796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2"/>
          </p:nvPr>
        </p:nvSpPr>
        <p:spPr>
          <a:xfrm>
            <a:off x="384984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120" y="739800"/>
            <a:ext cx="65689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13"/>
          </p:nvPr>
        </p:nvSpPr>
        <p:spPr>
          <a:xfrm>
            <a:off x="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14"/>
          </p:nvPr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3FA2-073D-4045-A846-B2BFA216D6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B6AE-9BB0-4916-8AB0-0E4D1AC289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53BD-BA4B-4ED6-ADFB-AB7FA96B84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80" y="739800"/>
            <a:ext cx="6568920" cy="3695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681080"/>
            <a:ext cx="54388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36144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DD31-D5BC-45DD-9779-6FDE0F7FD04C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9AD-5E4B-436C-9148-A2A8C65C8C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B12-6D51-4A25-A047-016D4B3440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225-E3ED-44EA-A63E-56986211C9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0D1-CA6A-4800-BD49-71D53D89B4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550-BED6-42CD-AFE1-4E808911E8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6A4-54AC-471E-90DB-84349DA743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D44-0C7A-4CC6-8162-749566E090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FC1-831B-4AC8-B059-BB14F6617F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345-C9A0-4657-B03E-2D8837C95A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05A-8AFD-4662-83BD-ED1477FD6B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14C-D068-4CB5-81D3-7A91558873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D03-0212-431E-ADE8-BA99CEDAF2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E0962-72DD-4B61-9BF3-6BE718CE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33118-BE82-46CC-8ACA-E8E85F3F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CE26E-CB6E-4B91-AAAC-B6148DE3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B6BA0-CB93-4DCD-9B96-C6CE93CF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DF816-9B03-40AD-BB95-13CB9933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36D27-656B-4864-8914-850DA675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BC2F3-85B7-4239-BB4F-8D1AAD4F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0B99B-D86D-4506-A04E-477DBE00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DF0D8-C8BF-4DC9-8ACA-7D5B607E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780FE-94C9-43EB-B95C-E41D728C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941D3-FA57-4DA0-A354-931AF050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E9AD0-6C62-47C4-BB74-C05B19EE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0E500D-25D7-4E16-BDFF-1A5BDD3120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7204D3-DA3E-4F95-A264-4F9C9A6196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2478CD-A307-4206-A801-E912A2A05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947BCC-C9BE-4980-9AA6-4F7C0F0B2E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378F16-1CD1-4AA1-B678-2DBCA60FCC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9B8A99-9A03-4C2D-8E0A-2EA8C86858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C69932-60D5-4419-8CD6-E24CF54E25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17777D-423B-449F-A2C0-52695BE7D1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2A0FAA-DA3D-4088-BA69-C825A1437B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A18138-1E0B-48CD-92C9-47C06ACC5A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3DCFE7-C9C7-469A-9A00-B5DCED46C1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8DB9FF-F7BD-443A-A1C4-F462E0AFC53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A6849-1142-4D26-AFDC-BA189F802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3163A-7D01-4EA4-94CF-C0E23C3EAC4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2B001-00FC-4FCC-A873-A5DDD87918B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ADF72-B07F-4B6B-8440-8D57173F747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580C9-7532-41F2-9EE7-D1194348C01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FB152-9971-49C5-BC6B-43C8B38B830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23079-9F30-49EF-9971-FFA16DEB39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B0988-B3E7-409A-8376-0D652BF0AA1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89495-C359-4D0F-BC50-C858ED94FB6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E5FA6-90D1-4B6F-B83E-21A18651766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91248-4B66-4ECB-83D8-BEFDA6E15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58C34-94D4-4EE3-B463-DD5B97B1ED8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5D725A-1BB2-4F27-81CE-ABF99018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04893-72D8-4251-9746-92816E01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6ADD7C-1DD6-4D14-8A64-CD883653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FCDD0-A8BB-4D03-BF7B-133307CD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1E1BD-67E5-429C-8B95-053C0E7D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CFE62D-28F9-4491-8008-C306367D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EACF8-8B46-4B8E-BA22-DA24AF51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9FED8-2487-405B-8760-DDB99840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9EEC46-FC2C-41BA-AB14-5A4A6E73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6FD66-1D46-4D57-82F3-02054228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9A7B83-3D89-4D31-BBC9-91599737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D9AB02-C3A0-461D-AEA6-388A59A9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8F8D-3672-4A78-9687-AE9EBAD67D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5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B440-48CD-4780-8518-F705CADE31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F76D-A35B-41AB-A081-81799E1B6A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2">
            <a:lum bright="70000" contrast="-70000"/>
          </a:blip>
          <a:srcRect l="41835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1012400" y="352440"/>
            <a:ext cx="1000080" cy="69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8"/>
          </p:nvPr>
        </p:nvSpPr>
        <p:spPr>
          <a:xfrm>
            <a:off x="-900000" y="1271160"/>
            <a:ext cx="711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934B-CFA5-4D5D-81A6-F5F8D3D8A5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23760" y="3495600"/>
            <a:ext cx="12228480" cy="336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4400" y="3476520"/>
            <a:ext cx="12206520" cy="3381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9747360" y="298440"/>
            <a:ext cx="2020680" cy="1398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9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0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1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2269-FF4C-4007-9FEC-CF496D96B125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07520" y="2641320"/>
            <a:ext cx="88441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Hospital Expansion Update 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NHS GJNUH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685"/>
                </a:solidFill>
                <a:latin typeface="Arial"/>
                <a:ea typeface="Arial"/>
              </a:rPr>
              <a:t>29 September 2022</a:t>
            </a:r>
            <a:endParaRPr b="0" lang="en-US" sz="3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1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685"/>
                </a:solidFill>
                <a:latin typeface="Tw Cen MT"/>
              </a:rPr>
              <a:t>Phase 1 Eye Centr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perational from Nov 20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ngoing defects monitoring continue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Meetings re possible solutions held with the PSCP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Design Engineer developing options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Scotland Assure to review design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lution will be taken to the Water Safety &amp; PCIC Groups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crease in patient numbers and double clinics now restrictions have eased.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79640" y="250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79640" y="1767960"/>
            <a:ext cx="815328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NHS Assure Stage 4 Construction Review now conclud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Initial report issued to NHS GJ and PSCP for review and comment 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Reduction in recommendations and actions from Stage 3 review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Engagement ongoing with SG in relation to scheduling next Gateway Review now NHS Assure has been complet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8480" y="183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Hospital Expansion Programm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68480" y="1682640"/>
            <a:ext cx="81532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4685"/>
                </a:solidFill>
                <a:latin typeface="Tw Cen MT"/>
              </a:rPr>
              <a:t>Phase 2 Surgical Centr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Works continue on site to programme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ire taping &amp; finishing taping L3, L1 &amp; L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Lift installation (6 of 8 complete) progressing lifts 1&amp;2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Floor finishes in theatres completed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HU deliveries, Electrical transformer delivered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Canopy installation in theatre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Roof access ladders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All level 2 modules now onsite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4685"/>
                </a:solidFill>
                <a:latin typeface="Tw Cen MT"/>
              </a:rPr>
              <a:t>Progressing with external works </a:t>
            </a:r>
            <a:endParaRPr b="0" lang="en-US" sz="22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59" name="Content Placeholder 4" descr=""/>
          <p:cNvPicPr/>
          <p:nvPr/>
        </p:nvPicPr>
        <p:blipFill>
          <a:blip r:embed="rId1"/>
          <a:stretch/>
        </p:blipFill>
        <p:spPr>
          <a:xfrm>
            <a:off x="817560" y="1957320"/>
            <a:ext cx="4403880" cy="3281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6742080" y="1874880"/>
            <a:ext cx="4635360" cy="33638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1386000" y="5576760"/>
            <a:ext cx="28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orridor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7245360" y="5576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heatre canopie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Phase 2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364" name="Content Placeholder 6" descr=""/>
          <p:cNvPicPr/>
          <p:nvPr/>
        </p:nvPicPr>
        <p:blipFill>
          <a:blip r:embed="rId1"/>
          <a:stretch/>
        </p:blipFill>
        <p:spPr>
          <a:xfrm>
            <a:off x="1225440" y="1589040"/>
            <a:ext cx="3475080" cy="4495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616800" y="1589040"/>
            <a:ext cx="4637160" cy="4495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555920" y="6224760"/>
            <a:ext cx="28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Trialling sanitary ware 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7213680" y="6254640"/>
            <a:ext cx="26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Arial"/>
                <a:ea typeface="Arial"/>
              </a:rPr>
              <a:t>Surgical Admissions</a:t>
            </a:r>
            <a:endParaRPr b="0" lang="en-US" sz="20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Breakthrough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3 completed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1 Junction 2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AI SCRIBE complet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s diversions and isolations commenc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 installation planned early Sept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Level 2 Junction 1, 2 and 3 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Hoardings installed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4685"/>
                </a:solidFill>
                <a:latin typeface="Tw Cen MT"/>
              </a:rPr>
              <a:t>Service diversions and isolations commenced </a:t>
            </a: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Refurbishments 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Ortho OPD (WTO1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oft strip of area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Theatre Admin (WTO 3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AI SCRIBE complete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Hoarding install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ervice diversion and isolations underway 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PACU and theatre refurbishment (WTO 2)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685"/>
                </a:solidFill>
                <a:latin typeface="Tw Cen MT"/>
              </a:rPr>
              <a:t>Survey work commenced</a:t>
            </a:r>
            <a:endParaRPr b="0" lang="en-US" sz="24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673280" y="-61920"/>
            <a:ext cx="8688240" cy="69040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3"/>
          <p:cNvSpPr/>
          <p:nvPr/>
        </p:nvSpPr>
        <p:spPr>
          <a:xfrm>
            <a:off x="5181480" y="60480"/>
            <a:ext cx="3187800" cy="209844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440080" y="5703840"/>
            <a:ext cx="2081160" cy="11016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659560" y="3247920"/>
            <a:ext cx="384120" cy="314280"/>
          </a:xfrm>
          <a:prstGeom prst="rect">
            <a:avLst/>
          </a:prstGeom>
          <a:solidFill>
            <a:srgbClr val="7f7f7f">
              <a:alpha val="46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018120" y="4530600"/>
            <a:ext cx="260280" cy="64476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835520" y="4113360"/>
            <a:ext cx="901800" cy="1126800"/>
          </a:xfrm>
          <a:prstGeom prst="rect">
            <a:avLst/>
          </a:prstGeom>
          <a:solidFill>
            <a:srgbClr val="7f7f7f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8745480" y="5097600"/>
            <a:ext cx="1368360" cy="38412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6634080" y="5526000"/>
            <a:ext cx="397080" cy="12794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9640800" y="5481720"/>
            <a:ext cx="471600" cy="1077840"/>
          </a:xfrm>
          <a:prstGeom prst="rect">
            <a:avLst/>
          </a:prstGeom>
          <a:solidFill>
            <a:srgbClr val="92d050">
              <a:alpha val="50000"/>
            </a:srgbClr>
          </a:solidFill>
          <a:ln w="1908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718560" y="3745080"/>
            <a:ext cx="897120" cy="312480"/>
          </a:xfrm>
          <a:prstGeom prst="rect">
            <a:avLst/>
          </a:prstGeom>
          <a:solidFill>
            <a:srgbClr val="7f7f7f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ost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2" name="Rectangle 11"/>
          <p:cNvSpPr/>
          <p:nvPr/>
        </p:nvSpPr>
        <p:spPr>
          <a:xfrm flipH="1">
            <a:off x="9717840" y="3083040"/>
            <a:ext cx="809640" cy="312480"/>
          </a:xfrm>
          <a:prstGeom prst="rect">
            <a:avLst/>
          </a:prstGeom>
          <a:solidFill>
            <a:srgbClr val="92d050">
              <a:alpha val="50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Pre Phase 2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5251320" y="98280"/>
            <a:ext cx="227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Provision of additional PACU bed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346360" y="2992320"/>
            <a:ext cx="133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Widen door access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5" name="TextBox 14"/>
          <p:cNvSpPr/>
          <p:nvPr/>
        </p:nvSpPr>
        <p:spPr>
          <a:xfrm>
            <a:off x="5855760" y="4359240"/>
            <a:ext cx="848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Trolley bay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6" name="TextBox 15"/>
          <p:cNvSpPr/>
          <p:nvPr/>
        </p:nvSpPr>
        <p:spPr>
          <a:xfrm>
            <a:off x="4643280" y="4113360"/>
            <a:ext cx="128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Create lay up prep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7" name="TextBox 16"/>
          <p:cNvSpPr/>
          <p:nvPr/>
        </p:nvSpPr>
        <p:spPr>
          <a:xfrm>
            <a:off x="2516040" y="5703840"/>
            <a:ext cx="2038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Theatre 9 refurb 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8" name="TextBox 17"/>
          <p:cNvSpPr/>
          <p:nvPr/>
        </p:nvSpPr>
        <p:spPr>
          <a:xfrm>
            <a:off x="4921920" y="37339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89" name="TextBox 18"/>
          <p:cNvSpPr/>
          <p:nvPr/>
        </p:nvSpPr>
        <p:spPr>
          <a:xfrm>
            <a:off x="6329160" y="3746520"/>
            <a:ext cx="635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Thoraci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8787960" y="3116160"/>
            <a:ext cx="583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1" name="TextBox 20"/>
          <p:cNvSpPr/>
          <p:nvPr/>
        </p:nvSpPr>
        <p:spPr>
          <a:xfrm>
            <a:off x="8897760" y="4498920"/>
            <a:ext cx="59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2" name="TextBox 21"/>
          <p:cNvSpPr/>
          <p:nvPr/>
        </p:nvSpPr>
        <p:spPr>
          <a:xfrm>
            <a:off x="7170840" y="624528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3" name="TextBox 22"/>
          <p:cNvSpPr/>
          <p:nvPr/>
        </p:nvSpPr>
        <p:spPr>
          <a:xfrm>
            <a:off x="8829720" y="62103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ardiac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4" name="TextBox 23"/>
          <p:cNvSpPr/>
          <p:nvPr/>
        </p:nvSpPr>
        <p:spPr>
          <a:xfrm>
            <a:off x="2516040" y="41450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5" name="TextBox 24"/>
          <p:cNvSpPr/>
          <p:nvPr/>
        </p:nvSpPr>
        <p:spPr>
          <a:xfrm>
            <a:off x="3992400" y="345456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3992400" y="4668840"/>
            <a:ext cx="5619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Ortho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7" name="TextBox 26"/>
          <p:cNvSpPr/>
          <p:nvPr/>
        </p:nvSpPr>
        <p:spPr>
          <a:xfrm>
            <a:off x="4643280" y="6210360"/>
            <a:ext cx="6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colorect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8" name="TextBox 27"/>
          <p:cNvSpPr/>
          <p:nvPr/>
        </p:nvSpPr>
        <p:spPr>
          <a:xfrm>
            <a:off x="7319880" y="35179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99" name="TextBox 28"/>
          <p:cNvSpPr/>
          <p:nvPr/>
        </p:nvSpPr>
        <p:spPr>
          <a:xfrm>
            <a:off x="7319880" y="4754520"/>
            <a:ext cx="61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0" name="TextBox 29"/>
          <p:cNvSpPr/>
          <p:nvPr/>
        </p:nvSpPr>
        <p:spPr>
          <a:xfrm>
            <a:off x="5880240" y="6126120"/>
            <a:ext cx="614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General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1" name="TextBox 30"/>
          <p:cNvSpPr/>
          <p:nvPr/>
        </p:nvSpPr>
        <p:spPr>
          <a:xfrm>
            <a:off x="6510240" y="5519880"/>
            <a:ext cx="1024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</a:t>
            </a:r>
            <a:r>
              <a:rPr b="1" lang="en-GB" sz="800" spc="-1" strike="noStrike">
                <a:solidFill>
                  <a:srgbClr val="004685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2" name="TextBox 31"/>
          <p:cNvSpPr/>
          <p:nvPr/>
        </p:nvSpPr>
        <p:spPr>
          <a:xfrm>
            <a:off x="9375840" y="5103720"/>
            <a:ext cx="1538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  <a:ea typeface="Arial"/>
              </a:rPr>
              <a:t>Breakthrough &amp; new stairwell</a:t>
            </a:r>
            <a:endParaRPr b="0" lang="en-US" sz="10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4562640" y="5703840"/>
            <a:ext cx="901440" cy="1127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4" name="Rectangle 33"/>
          <p:cNvSpPr/>
          <p:nvPr/>
        </p:nvSpPr>
        <p:spPr>
          <a:xfrm>
            <a:off x="3693960" y="2144880"/>
            <a:ext cx="4675320" cy="90000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34"/>
          <p:cNvSpPr/>
          <p:nvPr/>
        </p:nvSpPr>
        <p:spPr>
          <a:xfrm>
            <a:off x="8680320" y="4113360"/>
            <a:ext cx="90180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35"/>
          <p:cNvSpPr/>
          <p:nvPr/>
        </p:nvSpPr>
        <p:spPr>
          <a:xfrm>
            <a:off x="8685360" y="5697360"/>
            <a:ext cx="901440" cy="106524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36"/>
          <p:cNvSpPr/>
          <p:nvPr/>
        </p:nvSpPr>
        <p:spPr>
          <a:xfrm>
            <a:off x="7072200" y="5742000"/>
            <a:ext cx="901800" cy="105408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5667480" y="5789520"/>
            <a:ext cx="901440" cy="1019160"/>
          </a:xfrm>
          <a:prstGeom prst="rect">
            <a:avLst/>
          </a:prstGeom>
          <a:solidFill>
            <a:srgbClr val="00a2e2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9" name="Rectangle 38"/>
          <p:cNvSpPr/>
          <p:nvPr/>
        </p:nvSpPr>
        <p:spPr>
          <a:xfrm>
            <a:off x="9731520" y="4278240"/>
            <a:ext cx="896760" cy="312840"/>
          </a:xfrm>
          <a:prstGeom prst="rect">
            <a:avLst/>
          </a:prstGeom>
          <a:solidFill>
            <a:srgbClr val="00a2e2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Disruption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0" name="Rectangle 39"/>
          <p:cNvSpPr/>
          <p:nvPr/>
        </p:nvSpPr>
        <p:spPr>
          <a:xfrm>
            <a:off x="6238800" y="3218040"/>
            <a:ext cx="984240" cy="86652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829040" y="3240000"/>
            <a:ext cx="784440" cy="873360"/>
          </a:xfrm>
          <a:prstGeom prst="rect">
            <a:avLst/>
          </a:prstGeom>
          <a:solidFill>
            <a:srgbClr val="ffc000">
              <a:alpha val="51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9718560" y="4729320"/>
            <a:ext cx="897120" cy="312480"/>
          </a:xfrm>
          <a:prstGeom prst="rect">
            <a:avLst/>
          </a:prstGeom>
          <a:solidFill>
            <a:srgbClr val="ffc000">
              <a:alpha val="46000"/>
            </a:srgbClr>
          </a:solidFill>
          <a:ln w="38160">
            <a:solidFill>
              <a:srgbClr val="003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2342"/>
                </a:solidFill>
                <a:latin typeface="Tw Cen MT"/>
              </a:rPr>
              <a:t>? Th Move</a:t>
            </a:r>
            <a:endParaRPr b="0" lang="en-US" sz="8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Alison Mackay</cp:lastModifiedBy>
  <cp:lastPrinted>2022-08-31T13:23:00Z</cp:lastPrinted>
  <dcterms:modified xsi:type="dcterms:W3CDTF">2022-09-14T13:06:35Z</dcterms:modified>
  <cp:revision>225</cp:revision>
  <dc:subject/>
  <dc:title>West of Scotland  Cardio-Thoracic Surgery Centre  Engagement Event</dc:title>
</cp:coreProperties>
</file>