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2193588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12"/>
          </p:nvPr>
        </p:nvSpPr>
        <p:spPr>
          <a:xfrm>
            <a:off x="384984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120" y="739800"/>
            <a:ext cx="656892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13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14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24C0-D953-423D-ABE7-FE551CD514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E382-5DF0-44D5-B1E5-CC1F452D56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F44D-37B1-4305-95DC-318C918888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DC1A-9F4F-46CD-B2DA-15263315C481}" type="slidenum">
              <a:rPr b="0" lang="en-GB" sz="1200" spc="-1" strike="noStrike">
                <a:solidFill>
                  <a:srgbClr val="0046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B5BD-0C8F-41D7-A8F5-450B267AF1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7B0D-5145-4264-BF39-6F8AAA94C1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4164-7666-48F1-AD4B-B5F833EB5C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C983-F1EE-4F0F-8ACB-983D599F21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BAD3-7573-4ABC-8D1F-628C974C76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8F7D-3AC1-4634-9715-80830533EA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088C-A73A-4B79-A5B5-76AF322364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01D8-257A-4A79-A117-3871774A9F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98A0-39E3-47D3-9FED-DCD34AA245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115B-87F2-47E2-AFF5-B0D0D736B3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0430-E4EA-4C0F-AA60-60C01B13E4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8E4B-6DC1-40BE-9CD2-6FCEE7D9EC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ECFC4-EF04-48F3-B33B-9C8E132A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05777-9677-474C-9042-315DCDF7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416F0-C713-49DB-8E16-3E2ECDA2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6CCB6-E92B-48AB-8D8A-05B90AF9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433AE-2EDB-4A3E-B20A-5A9D5C92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178FF-9B0A-4429-B752-E8FBE533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8B830-92F3-427D-A695-88B49B27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DFF45-A612-4369-9222-1E5AF8D2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0571D-EAB8-4BDF-A502-A8DD6254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D7599-69BA-42D8-BAEB-849B6DB2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06087-8B20-485F-A3F7-B8A531D0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4FAE0-9897-4437-B2C2-0B8463B5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F5318A-7B6D-426B-A126-A487853EA79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13E330-6C56-4925-9BEF-4A824173081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1A30D1-3722-4D01-B844-CB6D0BE57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26B263-E8A7-488D-8052-070017A0FEB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9514A4-5502-4E30-B521-526C54B9323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5367B1-6ED9-4C3D-A846-F2377B3A5BF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7C73BD-362A-4680-82B1-45979980BA6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503016-6AC8-4EB7-B003-2B459FA3EE8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144CEF-3976-4042-A47C-E983E7D7F83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82C235-673E-414F-91BA-ACBA265DAAC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D930A2-65C4-47AB-8112-6BF97510191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5B4B43-6C39-4C2A-9875-ABE32B2D260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1C94AD-4506-4C0D-9E7C-D6A1909A30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16B176-2E4A-4B80-A645-D7AB0A65422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60BB48-BF8B-4F3F-8531-2BC6CC12822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29A58F-20A7-4E37-ABA3-B729FD48CC0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A4341F-9521-4A39-A805-DF6D540FE87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DC6E2-0C49-44DF-8B54-4F60045105A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9710D-84EE-40B8-9CDD-CB57CCE88E4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FBEC6-69B5-40A8-BC45-FA86629F646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94FC7D-3783-4FC1-84F0-50D2D4E9DE1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D4F011-E3F3-4019-A541-F06EEA2E446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49283C-3DA8-45D8-A36E-03013D80B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B8DFF2-2FC5-4E23-8116-972AAA3CF07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B7E605-0C45-4F70-9F0C-83A56C5D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9D8AB6-34B8-41DF-AA4C-F6B5B16A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7150CA-9345-4174-8AC8-8CA2C178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43F0FB-57C7-4F1A-A715-DDB4326C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87CE8D-958D-43F5-A0B8-F587DB09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37B307-1268-4628-9DBF-26217543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CFEDBD-D240-421A-B8A1-BD953B2E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AFDD7F-BE34-45EF-AB6C-50B38B81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3F3B85-838D-4967-A511-843B5F96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C0D372-58D6-45BE-991E-3821EAB2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502A2D-C3CB-4D86-85B2-53B55151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F264F4-8490-4E29-B250-50D674F5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5FB3-E2DC-4844-A48C-6AB79160E4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5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1469-7EBE-4EA1-9431-045FC73904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60BB-8143-48F0-9725-7D73892AD2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2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8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5829-2C61-4361-882B-6E37A01F8D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0" descr=""/>
          <p:cNvPicPr/>
          <p:nvPr/>
        </p:nvPicPr>
        <p:blipFill>
          <a:blip r:embed="rId2"/>
          <a:srcRect l="41833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"/>
          <p:cNvPicPr/>
          <p:nvPr/>
        </p:nvPicPr>
        <p:blipFill>
          <a:blip r:embed="rId3"/>
          <a:stretch/>
        </p:blipFill>
        <p:spPr>
          <a:xfrm>
            <a:off x="9747360" y="298440"/>
            <a:ext cx="2020680" cy="13986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0" descr=""/>
          <p:cNvPicPr/>
          <p:nvPr/>
        </p:nvPicPr>
        <p:blipFill>
          <a:blip r:embed="rId2"/>
          <a:srcRect l="42014" t="0" r="4533" b="0"/>
          <a:stretch/>
        </p:blipFill>
        <p:spPr>
          <a:xfrm>
            <a:off x="-14400" y="3476520"/>
            <a:ext cx="12206520" cy="3381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4" descr=""/>
          <p:cNvPicPr/>
          <p:nvPr/>
        </p:nvPicPr>
        <p:blipFill>
          <a:blip r:embed="rId3"/>
          <a:stretch/>
        </p:blipFill>
        <p:spPr>
          <a:xfrm>
            <a:off x="9747360" y="298440"/>
            <a:ext cx="2020680" cy="13986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9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0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1"/>
          </p:nvPr>
        </p:nvSpPr>
        <p:spPr>
          <a:xfrm>
            <a:off x="0" y="6248520"/>
            <a:ext cx="711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BA8B-DAF9-4105-88C1-F998C26E7B22}" type="slidenum">
              <a:rPr b="0" lang="en-US" sz="2400" spc="-1" strike="noStrike">
                <a:solidFill>
                  <a:srgbClr val="0046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07520" y="2641320"/>
            <a:ext cx="884412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Hospital Expansion Update 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NHS GJNUH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29 September 2022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1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685"/>
                </a:solidFill>
                <a:latin typeface="Tw Cen MT"/>
              </a:rPr>
              <a:t>Phase 1 Eye Centr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perational from Nov 20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ngoing defects monitoring continues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Meetings re possible solutions held with the PSCP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Design Engineer developing options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NHS Scotland Assure to review design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olution will be taken to the Water Safety &amp; PCIC Groups 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Increase in patient numbers and double clinics now restrictions have eased.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79640" y="250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Hospital Expansion Programm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79640" y="1767960"/>
            <a:ext cx="815328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4685"/>
                </a:solidFill>
                <a:latin typeface="Tw Cen MT"/>
              </a:rPr>
              <a:t>Phase 2 Surgical Centr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NHS Assure Stage 4 Construction Review now concluded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Initial report issued to NHS GJ and PSCP for review and comment 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Reduction in recommendations and actions from Stage 3 review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Engagement ongoing with SG in relation to scheduling next Gateway Review now NHS Assure has been complet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8480" y="183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Hospital Expansion Programm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68480" y="1682640"/>
            <a:ext cx="815328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4685"/>
                </a:solidFill>
                <a:latin typeface="Tw Cen MT"/>
              </a:rPr>
              <a:t>Phase 2 Surgical Centr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Works continue on site to programme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Fire taping &amp; finishing taping L3, L1 &amp; L2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Lift installation (6 of 8 complete) progressing lifts 1&amp;2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Floor finishes in theatres completed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AHU deliveries, Electrical transformer delivered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Canopy installation in theatres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Roof access ladders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All level 2 modules now onsite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Progressing with external works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2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359" name="Content Placeholder 4" descr=""/>
          <p:cNvPicPr/>
          <p:nvPr/>
        </p:nvPicPr>
        <p:blipFill>
          <a:blip r:embed="rId1"/>
          <a:stretch/>
        </p:blipFill>
        <p:spPr>
          <a:xfrm>
            <a:off x="817560" y="1957320"/>
            <a:ext cx="4403880" cy="3281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6742080" y="1874880"/>
            <a:ext cx="4635360" cy="3363840"/>
          </a:xfrm>
          <a:prstGeom prst="rect">
            <a:avLst/>
          </a:prstGeom>
          <a:ln w="0">
            <a:noFill/>
          </a:ln>
        </p:spPr>
      </p:pic>
      <p:sp>
        <p:nvSpPr>
          <p:cNvPr id="361" name="TextBox 6"/>
          <p:cNvSpPr/>
          <p:nvPr/>
        </p:nvSpPr>
        <p:spPr>
          <a:xfrm>
            <a:off x="1386000" y="5576760"/>
            <a:ext cx="28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heatre corridor 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7245360" y="557676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heatre canopies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2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364" name="Content Placeholder 6" descr=""/>
          <p:cNvPicPr/>
          <p:nvPr/>
        </p:nvPicPr>
        <p:blipFill>
          <a:blip r:embed="rId1"/>
          <a:stretch/>
        </p:blipFill>
        <p:spPr>
          <a:xfrm>
            <a:off x="1225440" y="1589040"/>
            <a:ext cx="3475080" cy="4495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616800" y="1589040"/>
            <a:ext cx="4637160" cy="4495680"/>
          </a:xfrm>
          <a:prstGeom prst="rect">
            <a:avLst/>
          </a:prstGeom>
          <a:ln w="0">
            <a:noFill/>
          </a:ln>
        </p:spPr>
      </p:pic>
      <p:sp>
        <p:nvSpPr>
          <p:cNvPr id="366" name="TextBox 8"/>
          <p:cNvSpPr/>
          <p:nvPr/>
        </p:nvSpPr>
        <p:spPr>
          <a:xfrm>
            <a:off x="1555920" y="622476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rialling sanitary ware 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7213680" y="6254640"/>
            <a:ext cx="26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Surgical Admissions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Breakthroughs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1 Junction 3 completed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1 Junction 2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AI SCRIBE completed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Services diversions and isolations commenced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oarding installation planned early Sept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2 Junction 1, 2 and 3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oardings installed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Service diversions and isolations commenced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Refurbishments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rtho OPD (WTO1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oarding installed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AI SCRIBE complet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oft strip of area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ervice diversion and isolations underway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Theatre Admin (WTO 3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AI SCRIBE complet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oarding install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ervice diversion and isolations underway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PACU and theatre refurbishment (WTO 2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urvey work commenc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1673280" y="-61920"/>
            <a:ext cx="8688240" cy="69040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3"/>
          <p:cNvSpPr/>
          <p:nvPr/>
        </p:nvSpPr>
        <p:spPr>
          <a:xfrm>
            <a:off x="5181480" y="60480"/>
            <a:ext cx="3187800" cy="209844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2440080" y="5703840"/>
            <a:ext cx="2081160" cy="110160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5659560" y="3247920"/>
            <a:ext cx="384120" cy="314280"/>
          </a:xfrm>
          <a:prstGeom prst="rect">
            <a:avLst/>
          </a:prstGeom>
          <a:solidFill>
            <a:srgbClr val="7f7f7f">
              <a:alpha val="46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6018120" y="4530600"/>
            <a:ext cx="260280" cy="644760"/>
          </a:xfrm>
          <a:prstGeom prst="rect">
            <a:avLst/>
          </a:prstGeom>
          <a:solidFill>
            <a:srgbClr val="7f7f7f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4835520" y="4113360"/>
            <a:ext cx="901800" cy="112680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8745480" y="5097600"/>
            <a:ext cx="1368360" cy="38412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6634080" y="5526000"/>
            <a:ext cx="397080" cy="127944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9640800" y="5481720"/>
            <a:ext cx="471600" cy="107784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9718560" y="3745080"/>
            <a:ext cx="897120" cy="312480"/>
          </a:xfrm>
          <a:prstGeom prst="rect">
            <a:avLst/>
          </a:prstGeom>
          <a:solidFill>
            <a:srgbClr val="7f7f7f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Post Phase 2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2" name="Rectangle 11"/>
          <p:cNvSpPr/>
          <p:nvPr/>
        </p:nvSpPr>
        <p:spPr>
          <a:xfrm flipH="1">
            <a:off x="9717840" y="3083040"/>
            <a:ext cx="809640" cy="312480"/>
          </a:xfrm>
          <a:prstGeom prst="rect">
            <a:avLst/>
          </a:prstGeom>
          <a:solidFill>
            <a:srgbClr val="92d050">
              <a:alpha val="50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Pre Phase 2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3" name="TextBox 12"/>
          <p:cNvSpPr/>
          <p:nvPr/>
        </p:nvSpPr>
        <p:spPr>
          <a:xfrm>
            <a:off x="5251320" y="98280"/>
            <a:ext cx="227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Provision of additional PACU beds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4" name="TextBox 13"/>
          <p:cNvSpPr/>
          <p:nvPr/>
        </p:nvSpPr>
        <p:spPr>
          <a:xfrm>
            <a:off x="5346360" y="2992320"/>
            <a:ext cx="1332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Widen door access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5" name="TextBox 14"/>
          <p:cNvSpPr/>
          <p:nvPr/>
        </p:nvSpPr>
        <p:spPr>
          <a:xfrm>
            <a:off x="5855760" y="4359240"/>
            <a:ext cx="848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Trolley bay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6" name="TextBox 15"/>
          <p:cNvSpPr/>
          <p:nvPr/>
        </p:nvSpPr>
        <p:spPr>
          <a:xfrm>
            <a:off x="4643280" y="4113360"/>
            <a:ext cx="128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Create lay up prep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7" name="TextBox 16"/>
          <p:cNvSpPr/>
          <p:nvPr/>
        </p:nvSpPr>
        <p:spPr>
          <a:xfrm>
            <a:off x="2516040" y="5703840"/>
            <a:ext cx="20383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 &amp;Theatre 9 refurb 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8" name="TextBox 17"/>
          <p:cNvSpPr/>
          <p:nvPr/>
        </p:nvSpPr>
        <p:spPr>
          <a:xfrm>
            <a:off x="4921920" y="3733920"/>
            <a:ext cx="635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Thoraci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9" name="TextBox 18"/>
          <p:cNvSpPr/>
          <p:nvPr/>
        </p:nvSpPr>
        <p:spPr>
          <a:xfrm>
            <a:off x="6329160" y="3746520"/>
            <a:ext cx="635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Thoraci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0" name="TextBox 19"/>
          <p:cNvSpPr/>
          <p:nvPr/>
        </p:nvSpPr>
        <p:spPr>
          <a:xfrm>
            <a:off x="8787960" y="3116160"/>
            <a:ext cx="583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1" name="TextBox 20"/>
          <p:cNvSpPr/>
          <p:nvPr/>
        </p:nvSpPr>
        <p:spPr>
          <a:xfrm>
            <a:off x="8897760" y="4498920"/>
            <a:ext cx="594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2" name="TextBox 21"/>
          <p:cNvSpPr/>
          <p:nvPr/>
        </p:nvSpPr>
        <p:spPr>
          <a:xfrm>
            <a:off x="7170840" y="624528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3" name="TextBox 22"/>
          <p:cNvSpPr/>
          <p:nvPr/>
        </p:nvSpPr>
        <p:spPr>
          <a:xfrm>
            <a:off x="8829720" y="621036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4" name="TextBox 23"/>
          <p:cNvSpPr/>
          <p:nvPr/>
        </p:nvSpPr>
        <p:spPr>
          <a:xfrm>
            <a:off x="2516040" y="414504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5" name="TextBox 24"/>
          <p:cNvSpPr/>
          <p:nvPr/>
        </p:nvSpPr>
        <p:spPr>
          <a:xfrm>
            <a:off x="3992400" y="345456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6" name="TextBox 25"/>
          <p:cNvSpPr/>
          <p:nvPr/>
        </p:nvSpPr>
        <p:spPr>
          <a:xfrm>
            <a:off x="3992400" y="466884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7" name="TextBox 26"/>
          <p:cNvSpPr/>
          <p:nvPr/>
        </p:nvSpPr>
        <p:spPr>
          <a:xfrm>
            <a:off x="4643280" y="6210360"/>
            <a:ext cx="684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olorect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8" name="TextBox 27"/>
          <p:cNvSpPr/>
          <p:nvPr/>
        </p:nvSpPr>
        <p:spPr>
          <a:xfrm>
            <a:off x="7319880" y="3517920"/>
            <a:ext cx="61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9" name="TextBox 28"/>
          <p:cNvSpPr/>
          <p:nvPr/>
        </p:nvSpPr>
        <p:spPr>
          <a:xfrm>
            <a:off x="7319880" y="4754520"/>
            <a:ext cx="61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0" name="TextBox 29"/>
          <p:cNvSpPr/>
          <p:nvPr/>
        </p:nvSpPr>
        <p:spPr>
          <a:xfrm>
            <a:off x="5880240" y="6126120"/>
            <a:ext cx="614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1" name="TextBox 30"/>
          <p:cNvSpPr/>
          <p:nvPr/>
        </p:nvSpPr>
        <p:spPr>
          <a:xfrm>
            <a:off x="6510240" y="5519880"/>
            <a:ext cx="10242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</a:t>
            </a: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2" name="TextBox 31"/>
          <p:cNvSpPr/>
          <p:nvPr/>
        </p:nvSpPr>
        <p:spPr>
          <a:xfrm>
            <a:off x="9375840" y="5103720"/>
            <a:ext cx="15382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 &amp; new stairwell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3" name="Rectangle 32"/>
          <p:cNvSpPr/>
          <p:nvPr/>
        </p:nvSpPr>
        <p:spPr>
          <a:xfrm>
            <a:off x="4562640" y="5703840"/>
            <a:ext cx="901440" cy="1127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4" name="Rectangle 33"/>
          <p:cNvSpPr/>
          <p:nvPr/>
        </p:nvSpPr>
        <p:spPr>
          <a:xfrm>
            <a:off x="3693960" y="2144880"/>
            <a:ext cx="4675320" cy="90000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5" name="Rectangle 34"/>
          <p:cNvSpPr/>
          <p:nvPr/>
        </p:nvSpPr>
        <p:spPr>
          <a:xfrm>
            <a:off x="8680320" y="4113360"/>
            <a:ext cx="901800" cy="1019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6" name="Rectangle 35"/>
          <p:cNvSpPr/>
          <p:nvPr/>
        </p:nvSpPr>
        <p:spPr>
          <a:xfrm>
            <a:off x="8685360" y="5697360"/>
            <a:ext cx="901440" cy="106524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7" name="Rectangle 36"/>
          <p:cNvSpPr/>
          <p:nvPr/>
        </p:nvSpPr>
        <p:spPr>
          <a:xfrm>
            <a:off x="7072200" y="5742000"/>
            <a:ext cx="901800" cy="105408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8" name="Rectangle 37"/>
          <p:cNvSpPr/>
          <p:nvPr/>
        </p:nvSpPr>
        <p:spPr>
          <a:xfrm>
            <a:off x="5667480" y="5789520"/>
            <a:ext cx="901440" cy="1019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9" name="Rectangle 38"/>
          <p:cNvSpPr/>
          <p:nvPr/>
        </p:nvSpPr>
        <p:spPr>
          <a:xfrm>
            <a:off x="9731520" y="4278240"/>
            <a:ext cx="896760" cy="312840"/>
          </a:xfrm>
          <a:prstGeom prst="rect">
            <a:avLst/>
          </a:prstGeom>
          <a:solidFill>
            <a:srgbClr val="00a2e2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Disruption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0" name="Rectangle 39"/>
          <p:cNvSpPr/>
          <p:nvPr/>
        </p:nvSpPr>
        <p:spPr>
          <a:xfrm>
            <a:off x="6238800" y="3218040"/>
            <a:ext cx="984240" cy="866520"/>
          </a:xfrm>
          <a:prstGeom prst="rect">
            <a:avLst/>
          </a:prstGeom>
          <a:solidFill>
            <a:srgbClr val="ffc000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1" name="Rectangle 40"/>
          <p:cNvSpPr/>
          <p:nvPr/>
        </p:nvSpPr>
        <p:spPr>
          <a:xfrm>
            <a:off x="4829040" y="3240000"/>
            <a:ext cx="784440" cy="873360"/>
          </a:xfrm>
          <a:prstGeom prst="rect">
            <a:avLst/>
          </a:prstGeom>
          <a:solidFill>
            <a:srgbClr val="ffc000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2" name="Rectangle 41"/>
          <p:cNvSpPr/>
          <p:nvPr/>
        </p:nvSpPr>
        <p:spPr>
          <a:xfrm>
            <a:off x="9718560" y="4729320"/>
            <a:ext cx="897120" cy="312480"/>
          </a:xfrm>
          <a:prstGeom prst="rect">
            <a:avLst/>
          </a:prstGeom>
          <a:solidFill>
            <a:srgbClr val="ffc000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? Th Move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3:33:31Z</dcterms:created>
  <dc:creator>Martin Clark</dc:creator>
  <dc:description/>
  <dc:language>en-US</dc:language>
  <cp:lastModifiedBy>Alison Mackay</cp:lastModifiedBy>
  <cp:lastPrinted>2022-08-31T13:23:00Z</cp:lastPrinted>
  <dcterms:modified xsi:type="dcterms:W3CDTF">2022-09-14T13:06:35Z</dcterms:modified>
  <cp:revision>225</cp:revision>
  <dc:subject/>
  <dc:title>West of Scotland  Cardio-Thoracic Surgery Centre  Engagement Event</dc:title>
</cp:coreProperties>
</file>