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12193588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7968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12"/>
          </p:nvPr>
        </p:nvSpPr>
        <p:spPr>
          <a:xfrm>
            <a:off x="3849840" y="-36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120" y="739800"/>
            <a:ext cx="6568920" cy="369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move the slid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13"/>
          </p:nvPr>
        </p:nvSpPr>
        <p:spPr>
          <a:xfrm>
            <a:off x="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14"/>
          </p:nvPr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97E9-86E5-4980-86CF-E77C72FDEE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480" y="739800"/>
            <a:ext cx="6568920" cy="36957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C5B5-1A41-4D8E-8D64-ED59DB5747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480" y="739800"/>
            <a:ext cx="6568920" cy="36957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B43D-6080-4B6C-A6B9-9ACE1D8C44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480" y="739800"/>
            <a:ext cx="6568920" cy="36957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96C7-44A1-410B-BD86-B3392CBE41AD}" type="slidenum">
              <a:rPr b="0" lang="en-GB" sz="1200" spc="-1" strike="noStrike">
                <a:solidFill>
                  <a:srgbClr val="0046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71D2-DE63-4C37-AD8F-C12082A2D8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77E6-FB7A-400A-BCD9-045552F709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8B46-112A-4A13-8E11-A01CCC5916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8119-6024-4143-968F-3B2BBE092C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69AF-7C9D-4EA7-B5F5-E4A7934F49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12ED-C882-444C-9112-B9A4A9C3A2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BE1E-18D6-4AD6-AFE4-15D7720B02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09B9-8BC1-4D62-B0AA-2088F274F4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BDD1-3FFC-4FF1-A56B-5AF4FB74E2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B611-B687-4BF3-9ACD-BC44C87A41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1F8F-30B1-43E5-BEE2-F6EA88DDD1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0BE5-98CA-4CC8-9B70-25B136D2320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D9BA3-2840-4E03-B38E-133B109A2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3764C-22D8-4AC7-B2CD-C0AD7B9D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65059-A99B-49FB-9EF8-ECCFB420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82028C-520B-4E32-BB2C-B164CF7B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9E65B6-D2F2-4E50-997E-06FCA11E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6B237A-E616-4BC3-9A5C-88FA95E6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D53923-B65F-4834-AA9C-F8FE03D0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6ECC5-EA42-4E45-B328-4A7485DD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342DB-BC41-421A-9926-6BA817ED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D9F4BA-32B5-4BAB-847E-B0301273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778E7-4067-4EBD-9BD3-542252750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DDF64-D96C-4C26-AE87-C17CF29D5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01DA48-43DF-414A-ADD8-7F2CA06E6F7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0BD461-F934-4C01-BF62-6461CD760F4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93FD1B-4D3C-4AC8-85FB-DAB119FEDB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C9E60D-0015-48CB-9A6C-DAE28F6AE5E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B730C1-F479-4125-A7D6-A77866D1522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920132-9FBA-41BA-BAE3-CE5FDC26357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03F2F6-76FB-4EC6-9824-B1C713235F0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A43849-ADD2-4F7D-AD58-42DF0599889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F0A704-92BC-4A3A-8EDE-9F43DA0B73A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A51B88-77C4-4966-AF13-E0DFB3E29E9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6F058D-BAB3-4D81-830A-1E78B3E6311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6F5216-19F3-423A-89C4-ACECACD1202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0F8AF5-789A-4B34-AA0C-EAA49045B9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F9AD55-9300-4A98-AB05-7D44C1DADC0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C36BC9-04B9-43EC-AC02-86895F2E97E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25564A-E595-491C-A789-D66324BD902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A45235-B4D9-4806-8DD6-89DDA3FC8FF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B22BBC-BBD0-47AC-B8D6-017EC9E5F83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1F6352-3D18-4598-BF13-D5989F1A7A4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E52E33-27F2-4D6E-A0A6-71A4A0B2487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B01E91-F6F7-4216-9827-9AB22EBA312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CEF73D-7409-4306-8C76-1E7E1E4EF1A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387A5E-DAE2-46EC-A392-541A22F1C4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984E33-21D6-4912-B764-E600E728D16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40EE15-D29F-4F9D-A326-B052278E2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A0AFC8-4424-491A-A537-6E0BE6F8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2C0E17-844F-4381-BE5D-B8F63A5D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C0B780-9A60-4CA7-93DD-B88DF2CF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CF4D2B-527D-496B-9B4A-39DA74FD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15D5E3-DC24-4493-A79B-0DB1F4F4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56147B-EC40-4402-A0CB-1492B08C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C38DC6-FB30-4493-B384-91179ECF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2D5BB8-A31D-4DA9-9948-CBEAEFAC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B3AEB9-F7DC-401A-8895-AEE33DD2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62B7A5-D643-4CF7-812C-8E546F7AA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2B6C24-713B-4F1B-A890-2964405EB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8080" y="6248520"/>
            <a:ext cx="355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2520" y="6248520"/>
            <a:ext cx="72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6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7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48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3"/>
          </p:nvPr>
        </p:nvSpPr>
        <p:spPr>
          <a:xfrm>
            <a:off x="-900000" y="1271160"/>
            <a:ext cx="711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D5B5-3B9C-4503-AF47-F940CA31D5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92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8128080" y="6248520"/>
            <a:ext cx="355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5"/>
          </p:nvPr>
        </p:nvSpPr>
        <p:spPr>
          <a:xfrm>
            <a:off x="-900000" y="1271160"/>
            <a:ext cx="711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59AF-72E4-42F4-BCF5-9038F31375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812520" y="6248520"/>
            <a:ext cx="72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138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7"/>
          </p:nvPr>
        </p:nvSpPr>
        <p:spPr>
          <a:xfrm>
            <a:off x="-900000" y="1271160"/>
            <a:ext cx="711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D72D-2431-4A32-8EE3-41429D3CC7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182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Num" idx="8"/>
          </p:nvPr>
        </p:nvSpPr>
        <p:spPr>
          <a:xfrm>
            <a:off x="-900000" y="1271160"/>
            <a:ext cx="711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2AD2-4B48-4BF5-8464-85708C23DE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10" descr=""/>
          <p:cNvPicPr/>
          <p:nvPr/>
        </p:nvPicPr>
        <p:blipFill>
          <a:blip r:embed="rId2"/>
          <a:srcRect l="41833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4" descr=""/>
          <p:cNvPicPr/>
          <p:nvPr/>
        </p:nvPicPr>
        <p:blipFill>
          <a:blip r:embed="rId3"/>
          <a:stretch/>
        </p:blipFill>
        <p:spPr>
          <a:xfrm>
            <a:off x="9747360" y="298440"/>
            <a:ext cx="2020680" cy="13986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10" descr=""/>
          <p:cNvPicPr/>
          <p:nvPr/>
        </p:nvPicPr>
        <p:blipFill>
          <a:blip r:embed="rId2"/>
          <a:srcRect l="42014" t="0" r="4533" b="0"/>
          <a:stretch/>
        </p:blipFill>
        <p:spPr>
          <a:xfrm>
            <a:off x="-14400" y="3476520"/>
            <a:ext cx="12206520" cy="3381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4" descr=""/>
          <p:cNvPicPr/>
          <p:nvPr/>
        </p:nvPicPr>
        <p:blipFill>
          <a:blip r:embed="rId3"/>
          <a:stretch/>
        </p:blipFill>
        <p:spPr>
          <a:xfrm>
            <a:off x="9747360" y="298440"/>
            <a:ext cx="2020680" cy="13986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9"/>
          </p:nvPr>
        </p:nvSpPr>
        <p:spPr>
          <a:xfrm>
            <a:off x="8128080" y="6248520"/>
            <a:ext cx="355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0"/>
          </p:nvPr>
        </p:nvSpPr>
        <p:spPr>
          <a:xfrm>
            <a:off x="812520" y="6248520"/>
            <a:ext cx="72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1"/>
          </p:nvPr>
        </p:nvSpPr>
        <p:spPr>
          <a:xfrm>
            <a:off x="0" y="6248520"/>
            <a:ext cx="711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E4C7-5D19-4DC3-A97B-53EAA09916B4}" type="slidenum">
              <a:rPr b="0" lang="en-US" sz="2400" spc="-1" strike="noStrike">
                <a:solidFill>
                  <a:srgbClr val="00468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07520" y="2641320"/>
            <a:ext cx="884412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685"/>
                </a:solidFill>
                <a:latin typeface="Arial"/>
                <a:ea typeface="Arial"/>
              </a:rPr>
              <a:t>Hospital Expansion Update </a:t>
            </a:r>
            <a:endParaRPr b="0" lang="en-US" sz="3600" spc="-1" strike="noStrike">
              <a:solidFill>
                <a:srgbClr val="004685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685"/>
                </a:solidFill>
                <a:latin typeface="Arial"/>
                <a:ea typeface="Arial"/>
              </a:rPr>
              <a:t>NHS GJNUH</a:t>
            </a:r>
            <a:endParaRPr b="0" lang="en-US" sz="3600" spc="-1" strike="noStrike">
              <a:solidFill>
                <a:srgbClr val="004685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685"/>
                </a:solidFill>
                <a:latin typeface="Arial"/>
                <a:ea typeface="Arial"/>
              </a:rPr>
              <a:t>29 September 2022</a:t>
            </a:r>
            <a:endParaRPr b="0" lang="en-US" sz="36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Phase 1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4685"/>
                </a:solidFill>
                <a:latin typeface="Tw Cen MT"/>
              </a:rPr>
              <a:t>Phase 1 Eye Centre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Operational from Nov 20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Ongoing defects monitoring continues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Meetings re possible solutions held with the PSCP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Design Engineer developing options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NHS Scotland Assure to review design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olution will be taken to the Water Safety &amp; PCIC Groups 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Increase in patient numbers and double clinics now restrictions have eased.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79640" y="2505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Hospital Expansion Programm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79640" y="1767960"/>
            <a:ext cx="8153280" cy="459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4685"/>
                </a:solidFill>
                <a:latin typeface="Tw Cen MT"/>
              </a:rPr>
              <a:t>Phase 2 Surgical Centre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NHS Assure Stage 4 Construction Review now concluded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Initial report issued to NHS GJ and PSCP for review and comment 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Reduction in recommendations and actions from Stage 3 review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Engagement ongoing with SG in relation to scheduling next Gateway Review now NHS Assure has been completed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8480" y="183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Hospital Expansion Programm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068480" y="1682640"/>
            <a:ext cx="815328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4685"/>
                </a:solidFill>
                <a:latin typeface="Tw Cen MT"/>
              </a:rPr>
              <a:t>Phase 2 Surgical Centre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Works continue on site to programme 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Fire taping &amp; finishing taping L3, L1 &amp; L2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Lift installation (6 of 8 complete) progressing lifts 1&amp;2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Floor finishes in theatres completed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AHU deliveries, Electrical transformer delivered 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Canopy installation in theatres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Roof access ladders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All level 2 modules now onsite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Progressing with external works 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Phase 2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pic>
        <p:nvPicPr>
          <p:cNvPr id="359" name="Content Placeholder 4" descr=""/>
          <p:cNvPicPr/>
          <p:nvPr/>
        </p:nvPicPr>
        <p:blipFill>
          <a:blip r:embed="rId1"/>
          <a:stretch/>
        </p:blipFill>
        <p:spPr>
          <a:xfrm>
            <a:off x="817560" y="1957320"/>
            <a:ext cx="4403880" cy="32814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"/>
          <p:cNvPicPr/>
          <p:nvPr/>
        </p:nvPicPr>
        <p:blipFill>
          <a:blip r:embed="rId2"/>
          <a:stretch/>
        </p:blipFill>
        <p:spPr>
          <a:xfrm>
            <a:off x="6742080" y="1874880"/>
            <a:ext cx="4635360" cy="3363840"/>
          </a:xfrm>
          <a:prstGeom prst="rect">
            <a:avLst/>
          </a:prstGeom>
          <a:ln w="0">
            <a:noFill/>
          </a:ln>
        </p:spPr>
      </p:pic>
      <p:sp>
        <p:nvSpPr>
          <p:cNvPr id="361" name="TextBox 6"/>
          <p:cNvSpPr/>
          <p:nvPr/>
        </p:nvSpPr>
        <p:spPr>
          <a:xfrm>
            <a:off x="1386000" y="5576760"/>
            <a:ext cx="28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Arial"/>
                <a:ea typeface="Arial"/>
              </a:rPr>
              <a:t>Theatre corridor </a:t>
            </a:r>
            <a:endParaRPr b="0" lang="en-US" sz="2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7245360" y="5576760"/>
            <a:ext cx="28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Arial"/>
                <a:ea typeface="Arial"/>
              </a:rPr>
              <a:t>Theatre canopies</a:t>
            </a:r>
            <a:endParaRPr b="0" lang="en-US" sz="20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Phase 2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pic>
        <p:nvPicPr>
          <p:cNvPr id="364" name="Content Placeholder 6" descr=""/>
          <p:cNvPicPr/>
          <p:nvPr/>
        </p:nvPicPr>
        <p:blipFill>
          <a:blip r:embed="rId1"/>
          <a:stretch/>
        </p:blipFill>
        <p:spPr>
          <a:xfrm>
            <a:off x="1225440" y="1589040"/>
            <a:ext cx="3475080" cy="44956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7" descr=""/>
          <p:cNvPicPr/>
          <p:nvPr/>
        </p:nvPicPr>
        <p:blipFill>
          <a:blip r:embed="rId2"/>
          <a:stretch/>
        </p:blipFill>
        <p:spPr>
          <a:xfrm>
            <a:off x="6616800" y="1589040"/>
            <a:ext cx="4637160" cy="4495680"/>
          </a:xfrm>
          <a:prstGeom prst="rect">
            <a:avLst/>
          </a:prstGeom>
          <a:ln w="0">
            <a:noFill/>
          </a:ln>
        </p:spPr>
      </p:pic>
      <p:sp>
        <p:nvSpPr>
          <p:cNvPr id="366" name="TextBox 8"/>
          <p:cNvSpPr/>
          <p:nvPr/>
        </p:nvSpPr>
        <p:spPr>
          <a:xfrm>
            <a:off x="1555920" y="6224760"/>
            <a:ext cx="28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Arial"/>
                <a:ea typeface="Arial"/>
              </a:rPr>
              <a:t>Trialling sanitary ware </a:t>
            </a:r>
            <a:endParaRPr b="0" lang="en-US" sz="2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67" name="TextBox 9"/>
          <p:cNvSpPr/>
          <p:nvPr/>
        </p:nvSpPr>
        <p:spPr>
          <a:xfrm>
            <a:off x="7213680" y="6254640"/>
            <a:ext cx="26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Arial"/>
                <a:ea typeface="Arial"/>
              </a:rPr>
              <a:t>Surgical Admissions</a:t>
            </a:r>
            <a:endParaRPr b="0" lang="en-US" sz="20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Breakthroughs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Level 1 Junction 3 completed 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Level 1 Junction 2 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HAI SCRIBE completed 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Services diversions and isolations commenced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Hoarding installation planned early Sept 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Level 2 Junction 1, 2 and 3 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Hoardings installed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Service diversions and isolations commenced 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Refurbishments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Ortho OPD (WTO1)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Hoarding installed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HAI SCRIBE complete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oft strip of area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ervice diversion and isolations underway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Theatre Admin (WTO 3)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HAI SCRIBE complete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Hoarding installed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ervice diversion and isolations underway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PACU and theatre refurbishment (WTO 2)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urvey work commenced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1" descr=""/>
          <p:cNvPicPr/>
          <p:nvPr/>
        </p:nvPicPr>
        <p:blipFill>
          <a:blip r:embed="rId1"/>
          <a:stretch/>
        </p:blipFill>
        <p:spPr>
          <a:xfrm>
            <a:off x="1673280" y="-61920"/>
            <a:ext cx="8688240" cy="690408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3"/>
          <p:cNvSpPr/>
          <p:nvPr/>
        </p:nvSpPr>
        <p:spPr>
          <a:xfrm>
            <a:off x="5181480" y="60480"/>
            <a:ext cx="3187800" cy="2098440"/>
          </a:xfrm>
          <a:prstGeom prst="rect">
            <a:avLst/>
          </a:prstGeom>
          <a:solidFill>
            <a:srgbClr val="7f7f7f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2440080" y="5703840"/>
            <a:ext cx="2081160" cy="1101600"/>
          </a:xfrm>
          <a:prstGeom prst="rect">
            <a:avLst/>
          </a:prstGeom>
          <a:solidFill>
            <a:srgbClr val="7f7f7f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5659560" y="3247920"/>
            <a:ext cx="384120" cy="314280"/>
          </a:xfrm>
          <a:prstGeom prst="rect">
            <a:avLst/>
          </a:prstGeom>
          <a:solidFill>
            <a:srgbClr val="7f7f7f">
              <a:alpha val="46000"/>
            </a:srgbClr>
          </a:solidFill>
          <a:ln w="1908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6018120" y="4530600"/>
            <a:ext cx="260280" cy="644760"/>
          </a:xfrm>
          <a:prstGeom prst="rect">
            <a:avLst/>
          </a:prstGeom>
          <a:solidFill>
            <a:srgbClr val="7f7f7f">
              <a:alpha val="46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4835520" y="4113360"/>
            <a:ext cx="901800" cy="1126800"/>
          </a:xfrm>
          <a:prstGeom prst="rect">
            <a:avLst/>
          </a:prstGeom>
          <a:solidFill>
            <a:srgbClr val="7f7f7f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8" name="Rectangle 2"/>
          <p:cNvSpPr/>
          <p:nvPr/>
        </p:nvSpPr>
        <p:spPr>
          <a:xfrm>
            <a:off x="8745480" y="5097600"/>
            <a:ext cx="1368360" cy="384120"/>
          </a:xfrm>
          <a:prstGeom prst="rect">
            <a:avLst/>
          </a:prstGeom>
          <a:solidFill>
            <a:srgbClr val="92d050">
              <a:alpha val="50000"/>
            </a:srgbClr>
          </a:solidFill>
          <a:ln w="1908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9" name="Rectangle 8"/>
          <p:cNvSpPr/>
          <p:nvPr/>
        </p:nvSpPr>
        <p:spPr>
          <a:xfrm>
            <a:off x="6634080" y="5526000"/>
            <a:ext cx="397080" cy="1279440"/>
          </a:xfrm>
          <a:prstGeom prst="rect">
            <a:avLst/>
          </a:prstGeom>
          <a:solidFill>
            <a:srgbClr val="92d050">
              <a:alpha val="50000"/>
            </a:srgbClr>
          </a:solidFill>
          <a:ln w="1908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0" name="Rectangle 9"/>
          <p:cNvSpPr/>
          <p:nvPr/>
        </p:nvSpPr>
        <p:spPr>
          <a:xfrm>
            <a:off x="9640800" y="5481720"/>
            <a:ext cx="471600" cy="1077840"/>
          </a:xfrm>
          <a:prstGeom prst="rect">
            <a:avLst/>
          </a:prstGeom>
          <a:solidFill>
            <a:srgbClr val="92d050">
              <a:alpha val="50000"/>
            </a:srgbClr>
          </a:solidFill>
          <a:ln w="1908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1" name="Rectangle 10"/>
          <p:cNvSpPr/>
          <p:nvPr/>
        </p:nvSpPr>
        <p:spPr>
          <a:xfrm>
            <a:off x="9718560" y="3745080"/>
            <a:ext cx="897120" cy="312480"/>
          </a:xfrm>
          <a:prstGeom prst="rect">
            <a:avLst/>
          </a:prstGeom>
          <a:solidFill>
            <a:srgbClr val="7f7f7f">
              <a:alpha val="46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342"/>
                </a:solidFill>
                <a:latin typeface="Tw Cen MT"/>
              </a:rPr>
              <a:t>Post Phase 2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2" name="Rectangle 11"/>
          <p:cNvSpPr/>
          <p:nvPr/>
        </p:nvSpPr>
        <p:spPr>
          <a:xfrm flipH="1">
            <a:off x="9717840" y="3083040"/>
            <a:ext cx="809640" cy="312480"/>
          </a:xfrm>
          <a:prstGeom prst="rect">
            <a:avLst/>
          </a:prstGeom>
          <a:solidFill>
            <a:srgbClr val="92d050">
              <a:alpha val="50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342"/>
                </a:solidFill>
                <a:latin typeface="Tw Cen MT"/>
              </a:rPr>
              <a:t>Pre Phase 2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3" name="TextBox 12"/>
          <p:cNvSpPr/>
          <p:nvPr/>
        </p:nvSpPr>
        <p:spPr>
          <a:xfrm>
            <a:off x="5251320" y="98280"/>
            <a:ext cx="227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Provision of additional PACU beds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4" name="TextBox 13"/>
          <p:cNvSpPr/>
          <p:nvPr/>
        </p:nvSpPr>
        <p:spPr>
          <a:xfrm>
            <a:off x="5346360" y="2992320"/>
            <a:ext cx="1332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Widen door access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5" name="TextBox 14"/>
          <p:cNvSpPr/>
          <p:nvPr/>
        </p:nvSpPr>
        <p:spPr>
          <a:xfrm>
            <a:off x="5855760" y="4359240"/>
            <a:ext cx="848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Trolley bay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6" name="TextBox 15"/>
          <p:cNvSpPr/>
          <p:nvPr/>
        </p:nvSpPr>
        <p:spPr>
          <a:xfrm>
            <a:off x="4643280" y="4113360"/>
            <a:ext cx="1287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Create lay up prep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7" name="TextBox 16"/>
          <p:cNvSpPr/>
          <p:nvPr/>
        </p:nvSpPr>
        <p:spPr>
          <a:xfrm>
            <a:off x="2516040" y="5703840"/>
            <a:ext cx="203832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Breakthrough &amp;Theatre 9 refurb 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8" name="TextBox 17"/>
          <p:cNvSpPr/>
          <p:nvPr/>
        </p:nvSpPr>
        <p:spPr>
          <a:xfrm>
            <a:off x="4921920" y="3733920"/>
            <a:ext cx="6350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Thoraci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9" name="TextBox 18"/>
          <p:cNvSpPr/>
          <p:nvPr/>
        </p:nvSpPr>
        <p:spPr>
          <a:xfrm>
            <a:off x="6329160" y="3746520"/>
            <a:ext cx="6350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Thoraci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0" name="TextBox 19"/>
          <p:cNvSpPr/>
          <p:nvPr/>
        </p:nvSpPr>
        <p:spPr>
          <a:xfrm>
            <a:off x="8787960" y="3116160"/>
            <a:ext cx="583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ardia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1" name="TextBox 20"/>
          <p:cNvSpPr/>
          <p:nvPr/>
        </p:nvSpPr>
        <p:spPr>
          <a:xfrm>
            <a:off x="8897760" y="4498920"/>
            <a:ext cx="5940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ardia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2" name="TextBox 21"/>
          <p:cNvSpPr/>
          <p:nvPr/>
        </p:nvSpPr>
        <p:spPr>
          <a:xfrm>
            <a:off x="7170840" y="624528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ardia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3" name="TextBox 22"/>
          <p:cNvSpPr/>
          <p:nvPr/>
        </p:nvSpPr>
        <p:spPr>
          <a:xfrm>
            <a:off x="8829720" y="621036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ardia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4" name="TextBox 23"/>
          <p:cNvSpPr/>
          <p:nvPr/>
        </p:nvSpPr>
        <p:spPr>
          <a:xfrm>
            <a:off x="2516040" y="414504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Ortho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5" name="TextBox 24"/>
          <p:cNvSpPr/>
          <p:nvPr/>
        </p:nvSpPr>
        <p:spPr>
          <a:xfrm>
            <a:off x="3992400" y="345456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Ortho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6" name="TextBox 25"/>
          <p:cNvSpPr/>
          <p:nvPr/>
        </p:nvSpPr>
        <p:spPr>
          <a:xfrm>
            <a:off x="3992400" y="466884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Ortho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7" name="TextBox 26"/>
          <p:cNvSpPr/>
          <p:nvPr/>
        </p:nvSpPr>
        <p:spPr>
          <a:xfrm>
            <a:off x="4643280" y="6210360"/>
            <a:ext cx="6843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olorectal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8" name="TextBox 27"/>
          <p:cNvSpPr/>
          <p:nvPr/>
        </p:nvSpPr>
        <p:spPr>
          <a:xfrm>
            <a:off x="7319880" y="3517920"/>
            <a:ext cx="6127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General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9" name="TextBox 28"/>
          <p:cNvSpPr/>
          <p:nvPr/>
        </p:nvSpPr>
        <p:spPr>
          <a:xfrm>
            <a:off x="7319880" y="4754520"/>
            <a:ext cx="6127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General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0" name="TextBox 29"/>
          <p:cNvSpPr/>
          <p:nvPr/>
        </p:nvSpPr>
        <p:spPr>
          <a:xfrm>
            <a:off x="5880240" y="6126120"/>
            <a:ext cx="6141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General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1" name="TextBox 30"/>
          <p:cNvSpPr/>
          <p:nvPr/>
        </p:nvSpPr>
        <p:spPr>
          <a:xfrm>
            <a:off x="6510240" y="5519880"/>
            <a:ext cx="10242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Breakthrough</a:t>
            </a: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2" name="TextBox 31"/>
          <p:cNvSpPr/>
          <p:nvPr/>
        </p:nvSpPr>
        <p:spPr>
          <a:xfrm>
            <a:off x="9375840" y="5103720"/>
            <a:ext cx="15382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Breakthrough &amp; new stairwell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3" name="Rectangle 32"/>
          <p:cNvSpPr/>
          <p:nvPr/>
        </p:nvSpPr>
        <p:spPr>
          <a:xfrm>
            <a:off x="4562640" y="5703840"/>
            <a:ext cx="901440" cy="112716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4" name="Rectangle 33"/>
          <p:cNvSpPr/>
          <p:nvPr/>
        </p:nvSpPr>
        <p:spPr>
          <a:xfrm>
            <a:off x="3693960" y="2144880"/>
            <a:ext cx="4675320" cy="90000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5" name="Rectangle 34"/>
          <p:cNvSpPr/>
          <p:nvPr/>
        </p:nvSpPr>
        <p:spPr>
          <a:xfrm>
            <a:off x="8680320" y="4113360"/>
            <a:ext cx="901800" cy="101916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6" name="Rectangle 35"/>
          <p:cNvSpPr/>
          <p:nvPr/>
        </p:nvSpPr>
        <p:spPr>
          <a:xfrm>
            <a:off x="8685360" y="5697360"/>
            <a:ext cx="901440" cy="106524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7" name="Rectangle 36"/>
          <p:cNvSpPr/>
          <p:nvPr/>
        </p:nvSpPr>
        <p:spPr>
          <a:xfrm>
            <a:off x="7072200" y="5742000"/>
            <a:ext cx="901800" cy="105408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8" name="Rectangle 37"/>
          <p:cNvSpPr/>
          <p:nvPr/>
        </p:nvSpPr>
        <p:spPr>
          <a:xfrm>
            <a:off x="5667480" y="5789520"/>
            <a:ext cx="901440" cy="101916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9" name="Rectangle 38"/>
          <p:cNvSpPr/>
          <p:nvPr/>
        </p:nvSpPr>
        <p:spPr>
          <a:xfrm>
            <a:off x="9731520" y="4278240"/>
            <a:ext cx="896760" cy="312840"/>
          </a:xfrm>
          <a:prstGeom prst="rect">
            <a:avLst/>
          </a:prstGeom>
          <a:solidFill>
            <a:srgbClr val="00a2e2">
              <a:alpha val="46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342"/>
                </a:solidFill>
                <a:latin typeface="Tw Cen MT"/>
              </a:rPr>
              <a:t>Disruption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10" name="Rectangle 39"/>
          <p:cNvSpPr/>
          <p:nvPr/>
        </p:nvSpPr>
        <p:spPr>
          <a:xfrm>
            <a:off x="6238800" y="3218040"/>
            <a:ext cx="984240" cy="866520"/>
          </a:xfrm>
          <a:prstGeom prst="rect">
            <a:avLst/>
          </a:prstGeom>
          <a:solidFill>
            <a:srgbClr val="ffc000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11" name="Rectangle 40"/>
          <p:cNvSpPr/>
          <p:nvPr/>
        </p:nvSpPr>
        <p:spPr>
          <a:xfrm>
            <a:off x="4829040" y="3240000"/>
            <a:ext cx="784440" cy="873360"/>
          </a:xfrm>
          <a:prstGeom prst="rect">
            <a:avLst/>
          </a:prstGeom>
          <a:solidFill>
            <a:srgbClr val="ffc000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12" name="Rectangle 41"/>
          <p:cNvSpPr/>
          <p:nvPr/>
        </p:nvSpPr>
        <p:spPr>
          <a:xfrm>
            <a:off x="9718560" y="4729320"/>
            <a:ext cx="897120" cy="312480"/>
          </a:xfrm>
          <a:prstGeom prst="rect">
            <a:avLst/>
          </a:prstGeom>
          <a:solidFill>
            <a:srgbClr val="ffc000">
              <a:alpha val="46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342"/>
                </a:solidFill>
                <a:latin typeface="Tw Cen MT"/>
              </a:rPr>
              <a:t>? Th Move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3:33:31Z</dcterms:created>
  <dc:creator>Martin Clark</dc:creator>
  <dc:description/>
  <dc:language>en-US</dc:language>
  <cp:lastModifiedBy>Alison Mackay</cp:lastModifiedBy>
  <cp:lastPrinted>2022-08-31T13:23:00Z</cp:lastPrinted>
  <dcterms:modified xsi:type="dcterms:W3CDTF">2022-09-14T13:06:35Z</dcterms:modified>
  <cp:revision>225</cp:revision>
  <dc:subject/>
  <dc:title>West of Scotland  Cardio-Thoracic Surgery Centre  Engagement Event</dc:title>
</cp:coreProperties>
</file>